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wmf" ContentType="image/x-wmf"/>
  <Override PartName="/ppt/media/image28.gif" ContentType="image/gif"/>
  <Override PartName="/ppt/media/image23.png" ContentType="image/png"/>
  <Override PartName="/ppt/media/image22.wmf" ContentType="image/x-wmf"/>
  <Override PartName="/ppt/media/image20.jpeg" ContentType="image/jpeg"/>
  <Override PartName="/ppt/media/image21.png" ContentType="image/png"/>
  <Override PartName="/ppt/media/image18.jpeg" ContentType="image/jpeg"/>
  <Override PartName="/ppt/media/image16.png" ContentType="image/png"/>
  <Override PartName="/ppt/media/image15.jpeg" ContentType="image/jpeg"/>
  <Override PartName="/ppt/media/image29.wmf" ContentType="image/x-wmf"/>
  <Override PartName="/ppt/media/image11.png" ContentType="image/png"/>
  <Override PartName="/ppt/media/image6.wmf" ContentType="image/x-wmf"/>
  <Override PartName="/ppt/media/image2.png" ContentType="image/png"/>
  <Override PartName="/ppt/media/image31.jpeg" ContentType="image/jpeg"/>
  <Override PartName="/ppt/media/image10.wmf" ContentType="image/x-wmf"/>
  <Override PartName="/ppt/media/image19.jpeg" ContentType="image/jpeg"/>
  <Override PartName="/ppt/media/image25.png" ContentType="image/png"/>
  <Override PartName="/ppt/media/image32.jpeg" ContentType="image/jpeg"/>
  <Override PartName="/ppt/media/image33.jpeg" ContentType="image/jpeg"/>
  <Override PartName="/ppt/media/image37.png" ContentType="image/png"/>
  <Override PartName="/ppt/media/image34.jpeg" ContentType="image/jpeg"/>
  <Override PartName="/ppt/media/image36.png" ContentType="image/png"/>
  <Override PartName="/ppt/media/image40.png" ContentType="image/png"/>
  <Override PartName="/ppt/media/image39.png" ContentType="image/png"/>
  <Override PartName="/ppt/media/image9.png" ContentType="image/png"/>
  <Override PartName="/ppt/media/image13.png" ContentType="image/png"/>
  <Override PartName="/ppt/media/image12.wmf" ContentType="image/x-wmf"/>
  <Override PartName="/ppt/media/image4.png" ContentType="image/png"/>
  <Override PartName="/ppt/media/image38.png" ContentType="image/png"/>
  <Override PartName="/ppt/media/image8.png" ContentType="image/png"/>
  <Override PartName="/ppt/media/image30.jpeg" ContentType="image/jpeg"/>
  <Override PartName="/ppt/media/image7.wmf" ContentType="image/x-wmf"/>
  <Override PartName="/ppt/media/image3.png" ContentType="image/png"/>
  <Override PartName="/ppt/media/image17.jpeg" ContentType="image/jpeg"/>
  <Override PartName="/ppt/media/image35.png" ContentType="image/png"/>
  <Override PartName="/ppt/media/image5.png" ContentType="image/png"/>
  <Override PartName="/ppt/media/image1.jpeg" ContentType="image/jpe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2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B98D-5A16-46C5-A735-0AA944865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B44B-2E8E-4AD9-8220-AD9D55F3408B}" type="datetime">
              <a:rPr b="0" lang="en-US" sz="1200" spc="-1" strike="noStrike">
                <a:solidFill>
                  <a:srgbClr val="ffffff"/>
                </a:solidFill>
                <a:latin typeface="Calibri"/>
              </a:rPr>
              <a:t>07/29/26</a:t>
            </a:fld>
            <a:r>
              <a:rPr b="0" lang="en-US" sz="1200" spc="-1" strike="noStrike">
                <a:solidFill>
                  <a:srgbClr val="ffffff"/>
                </a:solidFill>
                <a:latin typeface="Calibri"/>
              </a:rPr>
              <a:t> </a:t>
            </a:r>
            <a:fld id="{BAF305E9-8D46-4243-A63F-4410021FEE4A}" type="datetime10">
              <a:rPr b="0" lang="en-US" sz="1200" spc="-1" strike="noStrike">
                <a:solidFill>
                  <a:srgbClr val="ffffff"/>
                </a:solidFill>
                <a:latin typeface="Calibri"/>
              </a:rPr>
              <a:t>01:37</a:t>
            </a:fld>
            <a:endParaRPr b="0" lang="en-US" sz="1200" spc="-1" strike="noStrike">
              <a:solidFill>
                <a:srgbClr val="ffffff"/>
              </a:solidFill>
              <a:latin typeface="Arial"/>
            </a:endParaRPr>
          </a:p>
        </p:txBody>
      </p:sp>
      <p:sp>
        <p:nvSpPr>
          <p:cNvPr id="432"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433"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7F1A-AB9E-4F9E-A403-CA5B9EF7DD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165E7E-61C9-46D6-8406-F676CA89D691}"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1E1E63-4C5E-4292-B278-4701037DC5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pap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ity: Survey of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Objective:</a:t>
            </a:r>
            <a:r>
              <a:rPr b="0" i="1" lang="en-US" sz="1200" spc="-1" strike="noStrike">
                <a:solidFill>
                  <a:srgbClr val="000000"/>
                </a:solidFill>
                <a:latin typeface="Calibri"/>
              </a:rPr>
              <a:t> Become familiar with a Concept of Definition Ma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BF57A-7821-417B-BD03-C260D96DD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7"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1CF9-0CD1-4383-9E60-1BE036388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456A7-430F-479B-A873-EE7CF827C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9E19-F68C-4833-AA09-EA40C2BFC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9D2B-85E4-471F-97E1-8B5A8B04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9E76-B34B-456B-BB91-43064433A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C0A4B-0B2B-484D-B820-708CF3D4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0"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EDD68-3DD5-4C37-842D-3F9406DE0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7559-F596-4297-AC41-496299467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8"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9"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C40C-7CCD-4C5D-AF9D-9289B38A2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FDC94-6C33-4A52-AE44-3ED6502C0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6"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7"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8"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9"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0"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1"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C95EF-975F-4DB3-9384-4D2398648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5"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9"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8"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6"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7"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4"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5"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6"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7"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8"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9"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092DF-DDCF-4A57-8867-84B123A04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90423-03FF-4F48-9EA7-F157FAC85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128D-5F6D-4E9B-8C90-4D42CA757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00D48-B815-46DD-8631-0488E3C10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50C13-2583-4A0E-98CC-77B11B1A2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5E2A2-B07B-4337-A9CC-9D878F889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0A6BD-FFFE-4173-A0D5-58A4E3004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755EB-E4A0-4AEE-8F75-A8A469C35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9D37B-4CF4-4FEA-B660-234AE76A0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D6D58-9D62-4F50-8A1E-15D635095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A39C7-03B5-4254-8DC2-21119F923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FC47F-F174-4A31-B6D5-43A2B15A6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41B786-4806-479A-81F5-2F3D482CB4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5"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AFF8BD-97DD-45EB-9DA5-AF97AF1F3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7"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7EFE9-4754-4B9C-8B53-67144E244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9"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925830-323F-46E5-8A5E-DE68DA4E6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CFBB5-4CDD-466D-83C3-D6E4E34A73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7BF17-55DA-41B7-A88D-466ED24FD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B8546-5DFA-49DA-88D9-CFFC5857E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8"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0"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E79CA-B8BC-4600-8B19-BB746B9E3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4"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17DA03-9800-4C0B-869A-ABC2EFCBF4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6"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7"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C19CD-8281-44EE-9839-61C6AD785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2"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9B2BFA-C849-41A0-8888-AD56A7B6CF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84"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5"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6"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7"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8"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9"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1BE5E4-0503-4A7D-80B3-1EC68E485E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2"/>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
          <p:cNvSpPr/>
          <p:nvPr/>
        </p:nvSpPr>
        <p:spPr>
          <a:xfrm>
            <a:off x="1447920" y="1378080"/>
            <a:ext cx="7238880" cy="10152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8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powerpoint template: www.brainybetty.com</a:t>
            </a:r>
            <a:endParaRPr b="0" lang="en-US" sz="1000" spc="-1" strike="noStrike">
              <a:solidFill>
                <a:srgbClr val="000000"/>
              </a:solidFill>
              <a:latin typeface="Arial"/>
            </a:endParaRPr>
          </a:p>
        </p:txBody>
      </p:sp>
      <p:sp>
        <p:nvSpPr>
          <p:cNvPr id="83"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347D-CBD2-4B31-92C4-6261B9D4A8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23"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6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6"/>
          <p:cNvGrpSpPr/>
          <p:nvPr/>
        </p:nvGrpSpPr>
        <p:grpSpPr>
          <a:xfrm>
            <a:off x="0" y="914400"/>
            <a:ext cx="8686800" cy="2514600"/>
            <a:chOff x="0" y="914400"/>
            <a:chExt cx="8686800" cy="2514600"/>
          </a:xfrm>
        </p:grpSpPr>
        <p:sp>
          <p:nvSpPr>
            <p:cNvPr id="199" name="Oval 7"/>
            <p:cNvSpPr/>
            <p:nvPr/>
          </p:nvSpPr>
          <p:spPr>
            <a:xfrm>
              <a:off x="228600" y="914400"/>
              <a:ext cx="2514600" cy="2514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8"/>
            <p:cNvSpPr/>
            <p:nvPr/>
          </p:nvSpPr>
          <p:spPr>
            <a:xfrm>
              <a:off x="0" y="1676520"/>
              <a:ext cx="4724280" cy="114300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9"/>
            <p:cNvSpPr/>
            <p:nvPr/>
          </p:nvSpPr>
          <p:spPr>
            <a:xfrm>
              <a:off x="3962520" y="1676520"/>
              <a:ext cx="4724280" cy="114300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20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powerpoint template: www.brainybetty.com</a:t>
            </a:r>
            <a:endParaRPr b="0" lang="en-US" sz="1000" spc="-1" strike="noStrike">
              <a:solidFill>
                <a:srgbClr val="000000"/>
              </a:solidFill>
              <a:latin typeface="Arial"/>
            </a:endParaRPr>
          </a:p>
        </p:txBody>
      </p:sp>
      <p:sp>
        <p:nvSpPr>
          <p:cNvPr id="20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38EF-1951-4372-A88F-E0987A22A1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2"/>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3"/>
          <p:cNvSpPr/>
          <p:nvPr/>
        </p:nvSpPr>
        <p:spPr>
          <a:xfrm>
            <a:off x="1447920" y="1378080"/>
            <a:ext cx="7238880" cy="10152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25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990F-3FCB-4360-A02B-7C8FDC7069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gif"/><Relationship Id="rId6" Type="http://schemas.openxmlformats.org/officeDocument/2006/relationships/image" Target="../media/image29.wmf"/><Relationship Id="rId7" Type="http://schemas.openxmlformats.org/officeDocument/2006/relationships/image" Target="../media/image23.png"/><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cdpi.wikispaces.net/" TargetMode="External"/><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18960"/>
            <a:ext cx="8381880" cy="31546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500" spc="-1" strike="noStrike">
                <a:solidFill>
                  <a:srgbClr val="d9d9d9"/>
                </a:solidFill>
                <a:latin typeface="Calibri"/>
              </a:rPr>
              <a:t>Third Grade</a:t>
            </a:r>
            <a:br>
              <a:rPr sz="11500"/>
            </a:br>
            <a:r>
              <a:rPr b="0" lang="en-US" sz="11500" spc="-1" strike="noStrike">
                <a:solidFill>
                  <a:srgbClr val="d9d9d9"/>
                </a:solidFill>
                <a:latin typeface="Calibri"/>
              </a:rPr>
              <a:t>Matter</a:t>
            </a:r>
            <a:endParaRPr b="0" lang="en-US" sz="115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21" name=""/>
          <p:cNvSpPr txBox="1"/>
          <p:nvPr/>
        </p:nvSpPr>
        <p:spPr>
          <a:xfrm>
            <a:off x="76320" y="1295280"/>
            <a:ext cx="9067680" cy="874080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Matter</a:t>
            </a:r>
            <a:r>
              <a:rPr b="0" lang="en-US" sz="4000" spc="-1" strike="noStrike">
                <a:solidFill>
                  <a:srgbClr val="d9d9d9"/>
                </a:solidFill>
                <a:latin typeface="Calibri"/>
              </a:rPr>
              <a:t>:  anything that takes up spa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Solid</a:t>
            </a:r>
            <a:r>
              <a:rPr b="0" lang="en-US" sz="4000" spc="-1" strike="noStrike">
                <a:solidFill>
                  <a:srgbClr val="d9d9d9"/>
                </a:solidFill>
                <a:latin typeface="Calibri"/>
              </a:rPr>
              <a:t>:  substances that have a             definite shape that does not             change depending on the container</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Liquid</a:t>
            </a:r>
            <a:r>
              <a:rPr b="0" lang="en-US" sz="4000" spc="-1" strike="noStrike">
                <a:solidFill>
                  <a:srgbClr val="d9d9d9"/>
                </a:solidFill>
                <a:latin typeface="Calibri"/>
              </a:rPr>
              <a:t>:  substances that take the        shape of their container</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Gas</a:t>
            </a:r>
            <a:r>
              <a:rPr b="0" lang="en-US" sz="4000" spc="-1" strike="noStrike">
                <a:solidFill>
                  <a:srgbClr val="d9d9d9"/>
                </a:solidFill>
                <a:latin typeface="Calibri"/>
              </a:rPr>
              <a:t>:  substances that take the form          of their container and spread out to        fill the container</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322" name="Picture 2" descr="C:\Documents and Settings\afloyd\Local Settings\Temporary Internet Files\Content.IE5\9NKDE88T\MC900436167[1].png"/>
          <p:cNvPicPr/>
          <p:nvPr/>
        </p:nvPicPr>
        <p:blipFill>
          <a:blip r:embed="rId2"/>
          <a:stretch/>
        </p:blipFill>
        <p:spPr>
          <a:xfrm>
            <a:off x="7772400" y="5029200"/>
            <a:ext cx="1209600" cy="1371600"/>
          </a:xfrm>
          <a:prstGeom prst="rect">
            <a:avLst/>
          </a:prstGeom>
          <a:ln w="0">
            <a:noFill/>
          </a:ln>
        </p:spPr>
      </p:pic>
      <p:pic>
        <p:nvPicPr>
          <p:cNvPr id="323" name="Picture 3" descr="C:\Documents and Settings\afloyd\Local Settings\Temporary Internet Files\Content.IE5\PU6AB6QM\MC900280812[1].wmf"/>
          <p:cNvPicPr/>
          <p:nvPr/>
        </p:nvPicPr>
        <p:blipFill>
          <a:blip r:embed="rId3"/>
          <a:stretch/>
        </p:blipFill>
        <p:spPr>
          <a:xfrm>
            <a:off x="7359480" y="3048120"/>
            <a:ext cx="1784520" cy="1906560"/>
          </a:xfrm>
          <a:prstGeom prst="rect">
            <a:avLst/>
          </a:prstGeom>
          <a:ln w="0">
            <a:noFill/>
          </a:ln>
        </p:spPr>
      </p:pic>
      <p:pic>
        <p:nvPicPr>
          <p:cNvPr id="324" name="Picture 4" descr="C:\Documents and Settings\afloyd\Local Settings\Temporary Internet Files\Content.IE5\0YOSCR3O\MC900441708[1].png"/>
          <p:cNvPicPr/>
          <p:nvPr/>
        </p:nvPicPr>
        <p:blipFill>
          <a:blip r:embed="rId4"/>
          <a:stretch/>
        </p:blipFill>
        <p:spPr>
          <a:xfrm>
            <a:off x="6324480" y="1752480"/>
            <a:ext cx="1447920" cy="1447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26" name=""/>
          <p:cNvSpPr txBox="1"/>
          <p:nvPr/>
        </p:nvSpPr>
        <p:spPr>
          <a:xfrm>
            <a:off x="533160" y="1294920"/>
            <a:ext cx="7924680" cy="599400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Challenges:</a:t>
            </a:r>
            <a:endParaRPr b="0" lang="en-US" sz="40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Solids are hard.</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Solids cannot break.</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Liquids flow and fill the container.</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Gases spread out to fill the container and liquids take the shape of the container.</a:t>
            </a:r>
            <a:endParaRPr b="0" lang="en-US" sz="36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27" name="TextBox 3"/>
          <p:cNvSpPr/>
          <p:nvPr/>
        </p:nvSpPr>
        <p:spPr>
          <a:xfrm>
            <a:off x="533520" y="632448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s the Matter with Teaching Children About Matter? </a:t>
            </a:r>
            <a:r>
              <a:rPr b="0" lang="en-US" sz="1400" spc="-1" strike="noStrike">
                <a:solidFill>
                  <a:srgbClr val="ffffff"/>
                </a:solidFill>
                <a:latin typeface="Arial"/>
              </a:rPr>
              <a:t>by Palmeri, Cole, DeLisle, Erickson, &amp; Janes </a:t>
            </a:r>
            <a:r>
              <a:rPr b="0" i="1" lang="en-US" sz="1400" spc="-1" strike="noStrike">
                <a:solidFill>
                  <a:srgbClr val="ffffff"/>
                </a:solidFill>
                <a:latin typeface="Arial"/>
              </a:rPr>
              <a:t>Science and Children</a:t>
            </a:r>
            <a:r>
              <a:rPr b="0" lang="en-US" sz="1400" spc="-1" strike="noStrike">
                <a:solidFill>
                  <a:srgbClr val="ffffff"/>
                </a:solidFill>
                <a:latin typeface="Arial"/>
              </a:rPr>
              <a:t>, NSTA  Dec2008</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roperties of Air</a:t>
            </a:r>
            <a:endParaRPr b="0" lang="en-US" sz="6000" spc="-1" strike="noStrike">
              <a:solidFill>
                <a:srgbClr val="ffffff"/>
              </a:solidFill>
              <a:latin typeface="Calibri"/>
            </a:endParaRPr>
          </a:p>
        </p:txBody>
      </p:sp>
      <p:sp>
        <p:nvSpPr>
          <p:cNvPr id="329" name=""/>
          <p:cNvSpPr txBox="1"/>
          <p:nvPr/>
        </p:nvSpPr>
        <p:spPr>
          <a:xfrm>
            <a:off x="304560" y="1676520"/>
            <a:ext cx="4267080" cy="460080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Balloon Blow-up</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30" name="Content Placeholder 2"/>
          <p:cNvSpPr/>
          <p:nvPr/>
        </p:nvSpPr>
        <p:spPr>
          <a:xfrm>
            <a:off x="4648320" y="1676520"/>
            <a:ext cx="4267080" cy="683136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Baking soda (solid) and vinegar (liquid) combine to produce a gas (carbon dioxide).</a:t>
            </a: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ffc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p:txBody>
      </p:sp>
      <p:pic>
        <p:nvPicPr>
          <p:cNvPr id="331" name="Picture 6" descr="C:\Documents and Settings\afloyd\Local Settings\Temporary Internet Files\Content.IE5\ZOSTOBHF\MC900436168[1].png"/>
          <p:cNvPicPr/>
          <p:nvPr/>
        </p:nvPicPr>
        <p:blipFill>
          <a:blip r:embed="rId2"/>
          <a:stretch/>
        </p:blipFill>
        <p:spPr>
          <a:xfrm>
            <a:off x="1905120" y="2590920"/>
            <a:ext cx="2361960" cy="1903320"/>
          </a:xfrm>
          <a:prstGeom prst="rect">
            <a:avLst/>
          </a:prstGeom>
          <a:ln w="0">
            <a:noFill/>
          </a:ln>
        </p:spPr>
      </p:pic>
      <p:sp>
        <p:nvSpPr>
          <p:cNvPr id="332" name="Content Placeholder 2"/>
          <p:cNvSpPr/>
          <p:nvPr/>
        </p:nvSpPr>
        <p:spPr>
          <a:xfrm>
            <a:off x="2971800" y="6095880"/>
            <a:ext cx="66294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1800" spc="-1" strike="noStrike" u="sng">
                <a:solidFill>
                  <a:srgbClr val="d9d9d9"/>
                </a:solidFill>
                <a:uFillTx/>
                <a:latin typeface="Calibri"/>
              </a:rPr>
              <a:t>Solids, Liquids and Gases </a:t>
            </a:r>
            <a:r>
              <a:rPr b="0" lang="en-US" sz="1800" spc="-1" strike="noStrike">
                <a:solidFill>
                  <a:srgbClr val="d9d9d9"/>
                </a:solidFill>
                <a:latin typeface="Calibri"/>
              </a:rPr>
              <a:t>by Ontario Science Centre</a:t>
            </a:r>
            <a:endParaRPr b="0" lang="en-US" sz="1800" spc="-1" strike="noStrike">
              <a:solidFill>
                <a:srgbClr val="ffffff"/>
              </a:solidFill>
              <a:latin typeface="Arial"/>
            </a:endParaRPr>
          </a:p>
        </p:txBody>
      </p:sp>
      <p:pic>
        <p:nvPicPr>
          <p:cNvPr id="333" name="Picture 11" descr="31Qd4JSa9WL__AA160_.jpg"/>
          <p:cNvPicPr/>
          <p:nvPr/>
        </p:nvPicPr>
        <p:blipFill>
          <a:blip r:embed="rId3"/>
          <a:srcRect l="5008" t="0" r="5008" b="0"/>
          <a:stretch/>
        </p:blipFill>
        <p:spPr>
          <a:xfrm rot="366600">
            <a:off x="3171960" y="5860800"/>
            <a:ext cx="860400" cy="954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roperties of Air</a:t>
            </a:r>
            <a:endParaRPr b="0" lang="en-US" sz="6000" spc="-1" strike="noStrike">
              <a:solidFill>
                <a:srgbClr val="ffffff"/>
              </a:solidFill>
              <a:latin typeface="Calibri"/>
            </a:endParaRPr>
          </a:p>
        </p:txBody>
      </p:sp>
      <p:sp>
        <p:nvSpPr>
          <p:cNvPr id="335" name=""/>
          <p:cNvSpPr txBox="1"/>
          <p:nvPr/>
        </p:nvSpPr>
        <p:spPr>
          <a:xfrm>
            <a:off x="304560" y="1676160"/>
            <a:ext cx="4267080" cy="73022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mpty Glass Trick</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Huff ‘n Puff Trick</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36" name="Content Placeholder 2"/>
          <p:cNvSpPr/>
          <p:nvPr/>
        </p:nvSpPr>
        <p:spPr>
          <a:xfrm>
            <a:off x="4648320" y="1676520"/>
            <a:ext cx="4267080" cy="695844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glass and the bottle are full of air --- a mixture of gases.</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ir takes up space.</a:t>
            </a: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ffc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p:txBody>
      </p:sp>
      <p:pic>
        <p:nvPicPr>
          <p:cNvPr id="337" name="Picture 3" descr="C:\Documents and Settings\afloyd\Local Settings\Temporary Internet Files\Content.IE5\0YOSCR3O\MC900441752[1].png"/>
          <p:cNvPicPr/>
          <p:nvPr/>
        </p:nvPicPr>
        <p:blipFill>
          <a:blip r:embed="rId2"/>
          <a:stretch/>
        </p:blipFill>
        <p:spPr>
          <a:xfrm>
            <a:off x="2209680" y="2057400"/>
            <a:ext cx="2210040" cy="2209680"/>
          </a:xfrm>
          <a:prstGeom prst="rect">
            <a:avLst/>
          </a:prstGeom>
          <a:ln w="0">
            <a:noFill/>
          </a:ln>
        </p:spPr>
      </p:pic>
      <p:pic>
        <p:nvPicPr>
          <p:cNvPr id="338" name="Picture 4" descr="C:\Documents and Settings\afloyd\Local Settings\Temporary Internet Files\Content.IE5\ZOSTOBHF\MC900436168[1].png"/>
          <p:cNvPicPr/>
          <p:nvPr/>
        </p:nvPicPr>
        <p:blipFill>
          <a:blip r:embed="rId3"/>
          <a:stretch/>
        </p:blipFill>
        <p:spPr>
          <a:xfrm>
            <a:off x="3962520" y="4724280"/>
            <a:ext cx="1828800" cy="1473480"/>
          </a:xfrm>
          <a:prstGeom prst="rect">
            <a:avLst/>
          </a:prstGeom>
          <a:ln w="0">
            <a:noFill/>
          </a:ln>
        </p:spPr>
      </p:pic>
      <p:sp>
        <p:nvSpPr>
          <p:cNvPr id="339" name="Content Placeholder 2"/>
          <p:cNvSpPr/>
          <p:nvPr/>
        </p:nvSpPr>
        <p:spPr>
          <a:xfrm>
            <a:off x="152280" y="6095880"/>
            <a:ext cx="66294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1800" spc="-1" strike="noStrike" u="sng">
                <a:solidFill>
                  <a:srgbClr val="d9d9d9"/>
                </a:solidFill>
                <a:uFillTx/>
                <a:latin typeface="Calibri"/>
              </a:rPr>
              <a:t>Solids, Liquids and Gases </a:t>
            </a:r>
            <a:r>
              <a:rPr b="0" lang="en-US" sz="1800" spc="-1" strike="noStrike">
                <a:solidFill>
                  <a:srgbClr val="d9d9d9"/>
                </a:solidFill>
                <a:latin typeface="Calibri"/>
              </a:rPr>
              <a:t>by Ontario Science Centre</a:t>
            </a:r>
            <a:endParaRPr b="0" lang="en-US" sz="1800" spc="-1" strike="noStrike">
              <a:solidFill>
                <a:srgbClr val="ffffff"/>
              </a:solidFill>
              <a:latin typeface="Arial"/>
            </a:endParaRPr>
          </a:p>
        </p:txBody>
      </p:sp>
      <p:pic>
        <p:nvPicPr>
          <p:cNvPr id="340" name="Picture 11" descr="31Qd4JSa9WL__AA160_.jpg"/>
          <p:cNvPicPr/>
          <p:nvPr/>
        </p:nvPicPr>
        <p:blipFill>
          <a:blip r:embed="rId4"/>
          <a:srcRect l="5008" t="0" r="5008" b="0"/>
          <a:stretch/>
        </p:blipFill>
        <p:spPr>
          <a:xfrm rot="366600">
            <a:off x="352440" y="5860800"/>
            <a:ext cx="860400" cy="954000"/>
          </a:xfrm>
          <a:prstGeom prst="rect">
            <a:avLst/>
          </a:prstGeom>
          <a:ln w="0">
            <a:noFill/>
          </a:ln>
        </p:spPr>
      </p:pic>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roperties of Air</a:t>
            </a:r>
            <a:endParaRPr b="0" lang="en-US" sz="6000" spc="-1" strike="noStrike">
              <a:solidFill>
                <a:srgbClr val="ffffff"/>
              </a:solidFill>
              <a:latin typeface="Calibri"/>
            </a:endParaRPr>
          </a:p>
        </p:txBody>
      </p:sp>
      <p:sp>
        <p:nvSpPr>
          <p:cNvPr id="342" name=""/>
          <p:cNvSpPr txBox="1"/>
          <p:nvPr/>
        </p:nvSpPr>
        <p:spPr>
          <a:xfrm>
            <a:off x="304560" y="1676520"/>
            <a:ext cx="4267080" cy="66268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Strong Air</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43" name="Content Placeholder 2"/>
          <p:cNvSpPr/>
          <p:nvPr/>
        </p:nvSpPr>
        <p:spPr>
          <a:xfrm>
            <a:off x="3352680" y="1676520"/>
            <a:ext cx="5562720" cy="902448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ir pushes up, down and sideways on everything it touches.  This pushing power is called air pressure.  The air pushed up on the cardboard more than the water and air inside the glass pushed down.</a:t>
            </a: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ffc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p:txBody>
      </p:sp>
      <p:pic>
        <p:nvPicPr>
          <p:cNvPr id="344" name="Picture 3" descr="C:\Documents and Settings\afloyd\Local Settings\Temporary Internet Files\Content.IE5\0YOSCR3O\MC900441752[1].png"/>
          <p:cNvPicPr/>
          <p:nvPr/>
        </p:nvPicPr>
        <p:blipFill>
          <a:blip r:embed="rId2"/>
          <a:stretch/>
        </p:blipFill>
        <p:spPr>
          <a:xfrm>
            <a:off x="1295280" y="2057400"/>
            <a:ext cx="2210040" cy="220968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7" descr="product_go-temp__hero_001_590_332.jpg"/>
          <p:cNvPicPr/>
          <p:nvPr/>
        </p:nvPicPr>
        <p:blipFill>
          <a:blip r:embed="rId1"/>
          <a:srcRect l="12056" t="8789" r="8789" b="7696"/>
          <a:stretch/>
        </p:blipFill>
        <p:spPr>
          <a:xfrm>
            <a:off x="457200" y="1752480"/>
            <a:ext cx="3336840" cy="1981440"/>
          </a:xfrm>
          <a:prstGeom prst="rect">
            <a:avLst/>
          </a:prstGeom>
          <a:ln w="0">
            <a:noFill/>
          </a:ln>
        </p:spPr>
      </p:pic>
      <p:sp>
        <p:nvSpPr>
          <p:cNvPr id="346" name="Content Placeholder 2"/>
          <p:cNvSpPr/>
          <p:nvPr/>
        </p:nvSpPr>
        <p:spPr>
          <a:xfrm>
            <a:off x="1828800" y="3429000"/>
            <a:ext cx="6400800" cy="148140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5400" spc="-1" strike="noStrike">
                <a:solidFill>
                  <a:srgbClr val="d9d9d9"/>
                </a:solidFill>
                <a:latin typeface="Calibri"/>
              </a:rPr>
              <a:t>Vernier   Temperature Probe</a:t>
            </a:r>
            <a:r>
              <a:rPr b="0" lang="en-US" sz="5400" spc="-1" strike="noStrike">
                <a:solidFill>
                  <a:srgbClr val="92d050"/>
                </a:solidFill>
                <a:latin typeface="Constantia"/>
              </a:rPr>
              <a:t>	</a:t>
            </a:r>
            <a:endParaRPr b="0" lang="en-US" sz="5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49400"/>
            <a:ext cx="883944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Vocabulary/Content Resources</a:t>
            </a:r>
            <a:endParaRPr b="0" lang="en-US" sz="5400" spc="-1" strike="noStrike">
              <a:solidFill>
                <a:srgbClr val="ffffff"/>
              </a:solidFill>
              <a:latin typeface="Calibri"/>
            </a:endParaRPr>
          </a:p>
        </p:txBody>
      </p:sp>
      <p:sp>
        <p:nvSpPr>
          <p:cNvPr id="348" name=""/>
          <p:cNvSpPr txBox="1"/>
          <p:nvPr/>
        </p:nvSpPr>
        <p:spPr>
          <a:xfrm>
            <a:off x="-1295280" y="1294920"/>
            <a:ext cx="6781680" cy="163692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Saurus</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Great Source</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9" name="Content Placeholder 2"/>
          <p:cNvSpPr/>
          <p:nvPr/>
        </p:nvSpPr>
        <p:spPr>
          <a:xfrm>
            <a:off x="1905120" y="3429000"/>
            <a:ext cx="4419360" cy="162864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 Magnifier</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Carolina Biological</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350" name="Picture 9" descr="sciencesaurus-student-handbook-fran-needham-hardcover-cover-art.jpg"/>
          <p:cNvPicPr/>
          <p:nvPr/>
        </p:nvPicPr>
        <p:blipFill>
          <a:blip r:embed="rId1"/>
          <a:stretch/>
        </p:blipFill>
        <p:spPr>
          <a:xfrm>
            <a:off x="5257800" y="1295280"/>
            <a:ext cx="1523880" cy="2019600"/>
          </a:xfrm>
          <a:prstGeom prst="rect">
            <a:avLst/>
          </a:prstGeom>
          <a:ln w="0">
            <a:noFill/>
          </a:ln>
        </p:spPr>
      </p:pic>
      <p:pic>
        <p:nvPicPr>
          <p:cNvPr id="351" name="Picture 10" descr="117526927.jpg"/>
          <p:cNvPicPr/>
          <p:nvPr/>
        </p:nvPicPr>
        <p:blipFill>
          <a:blip r:embed="rId2"/>
          <a:stretch/>
        </p:blipFill>
        <p:spPr>
          <a:xfrm rot="21042600">
            <a:off x="3674880" y="952200"/>
            <a:ext cx="1606320" cy="2243160"/>
          </a:xfrm>
          <a:prstGeom prst="rect">
            <a:avLst/>
          </a:prstGeom>
          <a:ln w="0">
            <a:noFill/>
          </a:ln>
        </p:spPr>
      </p:pic>
      <p:pic>
        <p:nvPicPr>
          <p:cNvPr id="352" name="Picture 11" descr="933009_bbs.jpg"/>
          <p:cNvPicPr/>
          <p:nvPr/>
        </p:nvPicPr>
        <p:blipFill>
          <a:blip r:embed="rId3"/>
          <a:srcRect l="12804" t="0" r="13605" b="0"/>
          <a:stretch/>
        </p:blipFill>
        <p:spPr>
          <a:xfrm rot="21020400">
            <a:off x="492120" y="3025440"/>
            <a:ext cx="1752480" cy="2381400"/>
          </a:xfrm>
          <a:prstGeom prst="rect">
            <a:avLst/>
          </a:prstGeom>
          <a:ln w="0">
            <a:noFill/>
          </a:ln>
        </p:spPr>
      </p:pic>
      <p:pic>
        <p:nvPicPr>
          <p:cNvPr id="353" name="Picture 4" descr=""/>
          <p:cNvPicPr/>
          <p:nvPr/>
        </p:nvPicPr>
        <p:blipFill>
          <a:blip r:embed="rId4"/>
          <a:srcRect l="7231" t="5624" r="4981" b="0"/>
          <a:stretch/>
        </p:blipFill>
        <p:spPr>
          <a:xfrm rot="506400">
            <a:off x="6400440" y="4341960"/>
            <a:ext cx="2211480" cy="2241360"/>
          </a:xfrm>
          <a:prstGeom prst="rect">
            <a:avLst/>
          </a:prstGeom>
          <a:ln w="12600">
            <a:solidFill>
              <a:srgbClr val="ffffff"/>
            </a:solidFill>
            <a:miter/>
          </a:ln>
        </p:spPr>
      </p:pic>
      <p:sp>
        <p:nvSpPr>
          <p:cNvPr id="354" name="Content Placeholder 2"/>
          <p:cNvSpPr/>
          <p:nvPr/>
        </p:nvSpPr>
        <p:spPr>
          <a:xfrm>
            <a:off x="2209680" y="5234040"/>
            <a:ext cx="4419720" cy="206712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K-5 Science Glossary    of Terms</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from DPI </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States of Matter</a:t>
            </a:r>
            <a:endParaRPr b="0" lang="en-US" sz="4000" spc="-1" strike="noStrike">
              <a:solidFill>
                <a:srgbClr val="372221"/>
              </a:solidFill>
              <a:latin typeface="Arial"/>
            </a:endParaRPr>
          </a:p>
        </p:txBody>
      </p:sp>
      <p:sp>
        <p:nvSpPr>
          <p:cNvPr id="356" name="Text Box 3"/>
          <p:cNvSpPr/>
          <p:nvPr/>
        </p:nvSpPr>
        <p:spPr>
          <a:xfrm>
            <a:off x="2666880" y="32767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id</a:t>
            </a:r>
            <a:endParaRPr b="0" lang="en-US" sz="1800" spc="-1" strike="noStrike">
              <a:solidFill>
                <a:srgbClr val="ffffff"/>
              </a:solidFill>
              <a:latin typeface="Arial"/>
            </a:endParaRPr>
          </a:p>
        </p:txBody>
      </p:sp>
      <p:sp>
        <p:nvSpPr>
          <p:cNvPr id="357" name="Line 4"/>
          <p:cNvSpPr/>
          <p:nvPr/>
        </p:nvSpPr>
        <p:spPr>
          <a:xfrm flipV="1">
            <a:off x="3429000" y="2895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5"/>
          <p:cNvSpPr/>
          <p:nvPr/>
        </p:nvSpPr>
        <p:spPr>
          <a:xfrm>
            <a:off x="2514600" y="1542960"/>
            <a:ext cx="19051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i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tate of matter that maintains a fixed shape</a:t>
            </a:r>
            <a:endParaRPr b="0" lang="en-US" sz="1800" spc="-1" strike="noStrike">
              <a:solidFill>
                <a:srgbClr val="ffffff"/>
              </a:solidFill>
              <a:latin typeface="Arial"/>
            </a:endParaRPr>
          </a:p>
        </p:txBody>
      </p:sp>
      <p:sp>
        <p:nvSpPr>
          <p:cNvPr id="359" name="Line 6"/>
          <p:cNvSpPr/>
          <p:nvPr/>
        </p:nvSpPr>
        <p:spPr>
          <a:xfrm flipV="1">
            <a:off x="4343400" y="259056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Line 7"/>
          <p:cNvSpPr/>
          <p:nvPr/>
        </p:nvSpPr>
        <p:spPr>
          <a:xfrm flipV="1">
            <a:off x="4343400" y="3123720"/>
            <a:ext cx="1371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8"/>
          <p:cNvSpPr/>
          <p:nvPr/>
        </p:nvSpPr>
        <p:spPr>
          <a:xfrm>
            <a:off x="4343400" y="3581280"/>
            <a:ext cx="1371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9"/>
          <p:cNvSpPr/>
          <p:nvPr/>
        </p:nvSpPr>
        <p:spPr>
          <a:xfrm>
            <a:off x="4267080" y="3657600"/>
            <a:ext cx="12956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Text Box 10"/>
          <p:cNvSpPr/>
          <p:nvPr/>
        </p:nvSpPr>
        <p:spPr>
          <a:xfrm>
            <a:off x="5715000" y="2819520"/>
            <a:ext cx="2286000" cy="36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12"/>
          <p:cNvSpPr/>
          <p:nvPr/>
        </p:nvSpPr>
        <p:spPr>
          <a:xfrm>
            <a:off x="5715000" y="3276720"/>
            <a:ext cx="281952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Text Box 13"/>
          <p:cNvSpPr/>
          <p:nvPr/>
        </p:nvSpPr>
        <p:spPr>
          <a:xfrm>
            <a:off x="5562720" y="4191120"/>
            <a:ext cx="2819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change form by heating      </a:t>
            </a:r>
            <a:r>
              <a:rPr b="0" lang="en-US" sz="1600" spc="-1" strike="noStrike">
                <a:solidFill>
                  <a:srgbClr val="000000"/>
                </a:solidFill>
                <a:latin typeface="Arial"/>
              </a:rPr>
              <a:t>	</a:t>
            </a:r>
            <a:r>
              <a:rPr b="0" lang="en-US" sz="1600" spc="-1" strike="noStrike">
                <a:solidFill>
                  <a:srgbClr val="000000"/>
                </a:solidFill>
                <a:latin typeface="Arial"/>
              </a:rPr>
              <a:t>(ex – ice to water)</a:t>
            </a:r>
            <a:endParaRPr b="0" lang="en-US" sz="1600" spc="-1" strike="noStrike">
              <a:solidFill>
                <a:srgbClr val="ffffff"/>
              </a:solidFill>
              <a:latin typeface="Arial"/>
            </a:endParaRPr>
          </a:p>
        </p:txBody>
      </p:sp>
      <p:sp>
        <p:nvSpPr>
          <p:cNvPr id="366" name="Text Box 14"/>
          <p:cNvSpPr/>
          <p:nvPr/>
        </p:nvSpPr>
        <p:spPr>
          <a:xfrm>
            <a:off x="5334120" y="152388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it like?</a:t>
            </a:r>
            <a:endParaRPr b="0" lang="en-US" sz="1800" spc="-1" strike="noStrike">
              <a:solidFill>
                <a:srgbClr val="ffffff"/>
              </a:solidFill>
              <a:latin typeface="Arial"/>
            </a:endParaRPr>
          </a:p>
        </p:txBody>
      </p:sp>
      <p:sp>
        <p:nvSpPr>
          <p:cNvPr id="367" name="Line 15"/>
          <p:cNvSpPr/>
          <p:nvPr/>
        </p:nvSpPr>
        <p:spPr>
          <a:xfrm flipH="1">
            <a:off x="1219320" y="3657600"/>
            <a:ext cx="182880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16"/>
          <p:cNvSpPr/>
          <p:nvPr/>
        </p:nvSpPr>
        <p:spPr>
          <a:xfrm>
            <a:off x="3352680" y="36576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Line 17"/>
          <p:cNvSpPr/>
          <p:nvPr/>
        </p:nvSpPr>
        <p:spPr>
          <a:xfrm>
            <a:off x="3733920" y="3657600"/>
            <a:ext cx="129528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8"/>
          <p:cNvSpPr/>
          <p:nvPr/>
        </p:nvSpPr>
        <p:spPr>
          <a:xfrm>
            <a:off x="533520" y="5715000"/>
            <a:ext cx="914400" cy="36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Text Box 19"/>
          <p:cNvSpPr/>
          <p:nvPr/>
        </p:nvSpPr>
        <p:spPr>
          <a:xfrm>
            <a:off x="2666880" y="5715000"/>
            <a:ext cx="1371600" cy="380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Text Box 20"/>
          <p:cNvSpPr/>
          <p:nvPr/>
        </p:nvSpPr>
        <p:spPr>
          <a:xfrm>
            <a:off x="4724280" y="5638680"/>
            <a:ext cx="762120" cy="370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Text Box 21"/>
          <p:cNvSpPr/>
          <p:nvPr/>
        </p:nvSpPr>
        <p:spPr>
          <a:xfrm>
            <a:off x="1600200" y="6324480"/>
            <a:ext cx="358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examples?</a:t>
            </a:r>
            <a:endParaRPr b="0" lang="en-US" sz="1800" spc="-1" strike="noStrike">
              <a:solidFill>
                <a:srgbClr val="ffffff"/>
              </a:solidFill>
              <a:latin typeface="Arial"/>
            </a:endParaRPr>
          </a:p>
        </p:txBody>
      </p:sp>
      <p:sp>
        <p:nvSpPr>
          <p:cNvPr id="374" name="TextBox 21"/>
          <p:cNvSpPr/>
          <p:nvPr/>
        </p:nvSpPr>
        <p:spPr>
          <a:xfrm>
            <a:off x="689400" y="5715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a:t>
            </a:r>
            <a:endParaRPr b="0" lang="en-US" sz="1800" spc="-1" strike="noStrike">
              <a:solidFill>
                <a:srgbClr val="ffffff"/>
              </a:solidFill>
              <a:latin typeface="Arial"/>
            </a:endParaRPr>
          </a:p>
        </p:txBody>
      </p:sp>
      <p:sp>
        <p:nvSpPr>
          <p:cNvPr id="375" name="TextBox 22"/>
          <p:cNvSpPr/>
          <p:nvPr/>
        </p:nvSpPr>
        <p:spPr>
          <a:xfrm>
            <a:off x="2976480" y="5715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Arial"/>
            </a:endParaRPr>
          </a:p>
        </p:txBody>
      </p:sp>
      <p:sp>
        <p:nvSpPr>
          <p:cNvPr id="376" name="TextBox 23"/>
          <p:cNvSpPr/>
          <p:nvPr/>
        </p:nvSpPr>
        <p:spPr>
          <a:xfrm>
            <a:off x="4730400" y="5638680"/>
            <a:ext cx="7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a:t>
            </a:r>
            <a:endParaRPr b="0" lang="en-US" sz="1800" spc="-1" strike="noStrike">
              <a:solidFill>
                <a:srgbClr val="ffffff"/>
              </a:solidFill>
              <a:latin typeface="Arial"/>
            </a:endParaRPr>
          </a:p>
        </p:txBody>
      </p:sp>
      <p:sp>
        <p:nvSpPr>
          <p:cNvPr id="377" name="TextBox 24"/>
          <p:cNvSpPr/>
          <p:nvPr/>
        </p:nvSpPr>
        <p:spPr>
          <a:xfrm>
            <a:off x="5677920" y="2057400"/>
            <a:ext cx="1931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are tightly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d together</a:t>
            </a:r>
            <a:endParaRPr b="0" lang="en-US" sz="1600" spc="-1" strike="noStrike">
              <a:solidFill>
                <a:srgbClr val="ffffff"/>
              </a:solidFill>
              <a:latin typeface="Arial"/>
            </a:endParaRPr>
          </a:p>
        </p:txBody>
      </p:sp>
      <p:sp>
        <p:nvSpPr>
          <p:cNvPr id="378" name="TextBox 25"/>
          <p:cNvSpPr/>
          <p:nvPr/>
        </p:nvSpPr>
        <p:spPr>
          <a:xfrm>
            <a:off x="5715000" y="281952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tains own shape</a:t>
            </a:r>
            <a:endParaRPr b="0" lang="en-US" sz="1600" spc="-1" strike="noStrike">
              <a:solidFill>
                <a:srgbClr val="ffffff"/>
              </a:solidFill>
              <a:latin typeface="Arial"/>
            </a:endParaRPr>
          </a:p>
        </p:txBody>
      </p:sp>
      <p:sp>
        <p:nvSpPr>
          <p:cNvPr id="379" name="TextBox 26"/>
          <p:cNvSpPr/>
          <p:nvPr/>
        </p:nvSpPr>
        <p:spPr>
          <a:xfrm>
            <a:off x="5810400" y="3352680"/>
            <a:ext cx="269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hange form by for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 – cutting an apple)</a:t>
            </a:r>
            <a:endParaRPr b="0" lang="en-US" sz="1600" spc="-1" strike="noStrike">
              <a:solidFill>
                <a:srgbClr val="ffffff"/>
              </a:solidFill>
              <a:latin typeface="Arial"/>
            </a:endParaRPr>
          </a:p>
        </p:txBody>
      </p:sp>
      <p:pic>
        <p:nvPicPr>
          <p:cNvPr id="380" name="Picture 2" descr="C:\Documents and Settings\afloyd\My Documents\My Pictures\Microsoft Clip Organizer\00441708.png"/>
          <p:cNvPicPr/>
          <p:nvPr/>
        </p:nvPicPr>
        <p:blipFill>
          <a:blip r:embed="rId1"/>
          <a:stretch/>
        </p:blipFill>
        <p:spPr>
          <a:xfrm>
            <a:off x="5181480" y="5334120"/>
            <a:ext cx="1524240" cy="1523880"/>
          </a:xfrm>
          <a:prstGeom prst="rect">
            <a:avLst/>
          </a:prstGeom>
          <a:ln w="0">
            <a:noFill/>
          </a:ln>
        </p:spPr>
      </p:pic>
      <p:sp>
        <p:nvSpPr>
          <p:cNvPr id="381" name="table"/>
          <p:cNvSpPr/>
          <p:nvPr/>
        </p:nvSpPr>
        <p:spPr>
          <a:xfrm>
            <a:off x="1752480" y="4800600"/>
            <a:ext cx="1285920" cy="1057320"/>
          </a:xfrm>
          <a:custGeom>
            <a:avLst/>
            <a:gdLst>
              <a:gd name="textAreaLeft" fmla="*/ 239040 w 1285920"/>
              <a:gd name="textAreaRight" fmla="*/ 1049040 w 1285920"/>
              <a:gd name="textAreaTop" fmla="*/ 219600 h 1057320"/>
              <a:gd name="textAreaBottom" fmla="*/ 838080 h 1057320"/>
            </a:gdLst>
            <a:ahLst/>
            <a:rect l="textAreaLeft" t="textAreaTop" r="textAreaRight" b="textAreaBottom"/>
            <a:pathLst>
              <a:path w="21600" h="21600">
                <a:moveTo>
                  <a:pt x="17641" y="17591"/>
                </a:moveTo>
                <a:lnTo>
                  <a:pt x="18067" y="17165"/>
                </a:lnTo>
                <a:lnTo>
                  <a:pt x="18443" y="16689"/>
                </a:lnTo>
                <a:lnTo>
                  <a:pt x="18794" y="16162"/>
                </a:lnTo>
                <a:lnTo>
                  <a:pt x="19144" y="15661"/>
                </a:lnTo>
                <a:lnTo>
                  <a:pt x="19420" y="15135"/>
                </a:lnTo>
                <a:lnTo>
                  <a:pt x="19645" y="14584"/>
                </a:lnTo>
                <a:lnTo>
                  <a:pt x="19871" y="13982"/>
                </a:lnTo>
                <a:lnTo>
                  <a:pt x="20071" y="13406"/>
                </a:lnTo>
                <a:lnTo>
                  <a:pt x="20297" y="13456"/>
                </a:lnTo>
                <a:lnTo>
                  <a:pt x="20472" y="13456"/>
                </a:lnTo>
                <a:lnTo>
                  <a:pt x="20648" y="13406"/>
                </a:lnTo>
                <a:lnTo>
                  <a:pt x="20823" y="13331"/>
                </a:lnTo>
                <a:lnTo>
                  <a:pt x="20948" y="13206"/>
                </a:lnTo>
                <a:lnTo>
                  <a:pt x="21099" y="13080"/>
                </a:lnTo>
                <a:lnTo>
                  <a:pt x="21149" y="12905"/>
                </a:lnTo>
                <a:lnTo>
                  <a:pt x="21299" y="12704"/>
                </a:lnTo>
                <a:lnTo>
                  <a:pt x="21425" y="12253"/>
                </a:lnTo>
                <a:lnTo>
                  <a:pt x="21550" y="11727"/>
                </a:lnTo>
                <a:lnTo>
                  <a:pt x="21600" y="11276"/>
                </a:lnTo>
                <a:lnTo>
                  <a:pt x="21600" y="10800"/>
                </a:lnTo>
                <a:lnTo>
                  <a:pt x="21600" y="10324"/>
                </a:lnTo>
                <a:lnTo>
                  <a:pt x="21550" y="9823"/>
                </a:lnTo>
                <a:lnTo>
                  <a:pt x="21425" y="9347"/>
                </a:lnTo>
                <a:lnTo>
                  <a:pt x="21299" y="8896"/>
                </a:lnTo>
                <a:lnTo>
                  <a:pt x="21149" y="8695"/>
                </a:lnTo>
                <a:lnTo>
                  <a:pt x="21099" y="8520"/>
                </a:lnTo>
                <a:lnTo>
                  <a:pt x="20948" y="8344"/>
                </a:lnTo>
                <a:lnTo>
                  <a:pt x="20823" y="8269"/>
                </a:lnTo>
                <a:lnTo>
                  <a:pt x="20648" y="8169"/>
                </a:lnTo>
                <a:lnTo>
                  <a:pt x="20472" y="8144"/>
                </a:lnTo>
                <a:lnTo>
                  <a:pt x="20297" y="8144"/>
                </a:lnTo>
                <a:lnTo>
                  <a:pt x="20071" y="8169"/>
                </a:lnTo>
                <a:lnTo>
                  <a:pt x="19871" y="7618"/>
                </a:lnTo>
                <a:lnTo>
                  <a:pt x="19645" y="7016"/>
                </a:lnTo>
                <a:lnTo>
                  <a:pt x="19420" y="6490"/>
                </a:lnTo>
                <a:lnTo>
                  <a:pt x="19144" y="5939"/>
                </a:lnTo>
                <a:lnTo>
                  <a:pt x="18794" y="5438"/>
                </a:lnTo>
                <a:lnTo>
                  <a:pt x="18443" y="4961"/>
                </a:lnTo>
                <a:lnTo>
                  <a:pt x="18067" y="4460"/>
                </a:lnTo>
                <a:lnTo>
                  <a:pt x="17691" y="4034"/>
                </a:lnTo>
                <a:lnTo>
                  <a:pt x="17215" y="3608"/>
                </a:lnTo>
                <a:lnTo>
                  <a:pt x="16739" y="3232"/>
                </a:lnTo>
                <a:lnTo>
                  <a:pt x="16263" y="2832"/>
                </a:lnTo>
                <a:lnTo>
                  <a:pt x="15686" y="2506"/>
                </a:lnTo>
                <a:lnTo>
                  <a:pt x="15185" y="2205"/>
                </a:lnTo>
                <a:lnTo>
                  <a:pt x="14609" y="1929"/>
                </a:lnTo>
                <a:lnTo>
                  <a:pt x="14032" y="1704"/>
                </a:lnTo>
                <a:lnTo>
                  <a:pt x="13431" y="1503"/>
                </a:lnTo>
                <a:lnTo>
                  <a:pt x="13481" y="1278"/>
                </a:lnTo>
                <a:lnTo>
                  <a:pt x="13481" y="1103"/>
                </a:lnTo>
                <a:lnTo>
                  <a:pt x="13431" y="952"/>
                </a:lnTo>
                <a:lnTo>
                  <a:pt x="13356" y="777"/>
                </a:lnTo>
                <a:lnTo>
                  <a:pt x="13256" y="626"/>
                </a:lnTo>
                <a:lnTo>
                  <a:pt x="13080" y="526"/>
                </a:lnTo>
                <a:lnTo>
                  <a:pt x="12930" y="426"/>
                </a:lnTo>
                <a:lnTo>
                  <a:pt x="12704" y="301"/>
                </a:lnTo>
                <a:lnTo>
                  <a:pt x="12278" y="175"/>
                </a:lnTo>
                <a:lnTo>
                  <a:pt x="11802" y="25"/>
                </a:lnTo>
                <a:lnTo>
                  <a:pt x="11276" y="0"/>
                </a:lnTo>
                <a:lnTo>
                  <a:pt x="10825" y="0"/>
                </a:lnTo>
                <a:lnTo>
                  <a:pt x="10324" y="0"/>
                </a:lnTo>
                <a:lnTo>
                  <a:pt x="9848" y="25"/>
                </a:lnTo>
                <a:lnTo>
                  <a:pt x="9347" y="175"/>
                </a:lnTo>
                <a:lnTo>
                  <a:pt x="8921" y="301"/>
                </a:lnTo>
                <a:lnTo>
                  <a:pt x="8695" y="426"/>
                </a:lnTo>
                <a:lnTo>
                  <a:pt x="8545" y="526"/>
                </a:lnTo>
                <a:lnTo>
                  <a:pt x="8394" y="626"/>
                </a:lnTo>
                <a:lnTo>
                  <a:pt x="8269" y="777"/>
                </a:lnTo>
                <a:lnTo>
                  <a:pt x="8169" y="952"/>
                </a:lnTo>
                <a:lnTo>
                  <a:pt x="8144" y="1103"/>
                </a:lnTo>
                <a:lnTo>
                  <a:pt x="8144" y="1278"/>
                </a:lnTo>
                <a:lnTo>
                  <a:pt x="8219" y="1503"/>
                </a:lnTo>
                <a:lnTo>
                  <a:pt x="7618" y="1704"/>
                </a:lnTo>
                <a:lnTo>
                  <a:pt x="7066" y="1929"/>
                </a:lnTo>
                <a:lnTo>
                  <a:pt x="6490" y="2205"/>
                </a:lnTo>
                <a:lnTo>
                  <a:pt x="5939" y="2456"/>
                </a:lnTo>
                <a:lnTo>
                  <a:pt x="5438" y="2781"/>
                </a:lnTo>
                <a:lnTo>
                  <a:pt x="4961" y="3132"/>
                </a:lnTo>
                <a:lnTo>
                  <a:pt x="4485" y="3533"/>
                </a:lnTo>
                <a:lnTo>
                  <a:pt x="4059" y="3959"/>
                </a:lnTo>
                <a:lnTo>
                  <a:pt x="3633" y="4385"/>
                </a:lnTo>
                <a:lnTo>
                  <a:pt x="3232" y="4861"/>
                </a:lnTo>
                <a:lnTo>
                  <a:pt x="2857" y="5387"/>
                </a:lnTo>
                <a:lnTo>
                  <a:pt x="2506" y="5889"/>
                </a:lnTo>
                <a:lnTo>
                  <a:pt x="2205" y="6465"/>
                </a:lnTo>
                <a:lnTo>
                  <a:pt x="1955" y="7016"/>
                </a:lnTo>
                <a:lnTo>
                  <a:pt x="1729" y="7568"/>
                </a:lnTo>
                <a:lnTo>
                  <a:pt x="1529" y="8169"/>
                </a:lnTo>
                <a:lnTo>
                  <a:pt x="1303" y="8144"/>
                </a:lnTo>
                <a:lnTo>
                  <a:pt x="1128" y="8144"/>
                </a:lnTo>
                <a:lnTo>
                  <a:pt x="977" y="8169"/>
                </a:lnTo>
                <a:lnTo>
                  <a:pt x="802" y="8269"/>
                </a:lnTo>
                <a:lnTo>
                  <a:pt x="652" y="8344"/>
                </a:lnTo>
                <a:lnTo>
                  <a:pt x="526" y="8520"/>
                </a:lnTo>
                <a:lnTo>
                  <a:pt x="451" y="8695"/>
                </a:lnTo>
                <a:lnTo>
                  <a:pt x="326" y="8896"/>
                </a:lnTo>
                <a:lnTo>
                  <a:pt x="200" y="9347"/>
                </a:lnTo>
                <a:lnTo>
                  <a:pt x="50" y="9823"/>
                </a:lnTo>
                <a:lnTo>
                  <a:pt x="0" y="10324"/>
                </a:lnTo>
                <a:lnTo>
                  <a:pt x="0" y="10800"/>
                </a:lnTo>
                <a:lnTo>
                  <a:pt x="0" y="11276"/>
                </a:lnTo>
                <a:lnTo>
                  <a:pt x="50" y="11727"/>
                </a:lnTo>
                <a:lnTo>
                  <a:pt x="200" y="12253"/>
                </a:lnTo>
                <a:lnTo>
                  <a:pt x="326" y="12704"/>
                </a:lnTo>
                <a:lnTo>
                  <a:pt x="451" y="12905"/>
                </a:lnTo>
                <a:lnTo>
                  <a:pt x="526" y="13080"/>
                </a:lnTo>
                <a:lnTo>
                  <a:pt x="652" y="13206"/>
                </a:lnTo>
                <a:lnTo>
                  <a:pt x="802" y="13331"/>
                </a:lnTo>
                <a:lnTo>
                  <a:pt x="977" y="13406"/>
                </a:lnTo>
                <a:lnTo>
                  <a:pt x="1128" y="13456"/>
                </a:lnTo>
                <a:lnTo>
                  <a:pt x="1303" y="13456"/>
                </a:lnTo>
                <a:lnTo>
                  <a:pt x="1529" y="13406"/>
                </a:lnTo>
                <a:lnTo>
                  <a:pt x="1729" y="13982"/>
                </a:lnTo>
                <a:lnTo>
                  <a:pt x="1955" y="14584"/>
                </a:lnTo>
                <a:lnTo>
                  <a:pt x="2255" y="15135"/>
                </a:lnTo>
                <a:lnTo>
                  <a:pt x="2556" y="15736"/>
                </a:lnTo>
                <a:lnTo>
                  <a:pt x="2907" y="16263"/>
                </a:lnTo>
                <a:lnTo>
                  <a:pt x="3283" y="16764"/>
                </a:lnTo>
                <a:lnTo>
                  <a:pt x="3684" y="17240"/>
                </a:lnTo>
                <a:lnTo>
                  <a:pt x="4110" y="17741"/>
                </a:lnTo>
                <a:lnTo>
                  <a:pt x="4535" y="18117"/>
                </a:lnTo>
                <a:lnTo>
                  <a:pt x="5012" y="18493"/>
                </a:lnTo>
                <a:lnTo>
                  <a:pt x="5463" y="18844"/>
                </a:lnTo>
                <a:lnTo>
                  <a:pt x="5989" y="19144"/>
                </a:lnTo>
                <a:lnTo>
                  <a:pt x="6490" y="19420"/>
                </a:lnTo>
                <a:lnTo>
                  <a:pt x="7066" y="19645"/>
                </a:lnTo>
                <a:lnTo>
                  <a:pt x="7618" y="19921"/>
                </a:lnTo>
                <a:lnTo>
                  <a:pt x="8219" y="20071"/>
                </a:lnTo>
                <a:lnTo>
                  <a:pt x="8144" y="20297"/>
                </a:lnTo>
                <a:lnTo>
                  <a:pt x="8144" y="20472"/>
                </a:lnTo>
                <a:lnTo>
                  <a:pt x="8169" y="20648"/>
                </a:lnTo>
                <a:lnTo>
                  <a:pt x="8269" y="20823"/>
                </a:lnTo>
                <a:lnTo>
                  <a:pt x="8394" y="20948"/>
                </a:lnTo>
                <a:lnTo>
                  <a:pt x="8545" y="21074"/>
                </a:lnTo>
                <a:lnTo>
                  <a:pt x="8695" y="21149"/>
                </a:lnTo>
                <a:lnTo>
                  <a:pt x="8921" y="21299"/>
                </a:lnTo>
                <a:lnTo>
                  <a:pt x="9347" y="21425"/>
                </a:lnTo>
                <a:lnTo>
                  <a:pt x="9848" y="21550"/>
                </a:lnTo>
                <a:lnTo>
                  <a:pt x="10324" y="21600"/>
                </a:lnTo>
                <a:lnTo>
                  <a:pt x="10825" y="21600"/>
                </a:lnTo>
                <a:lnTo>
                  <a:pt x="11276" y="21600"/>
                </a:lnTo>
                <a:lnTo>
                  <a:pt x="11802" y="21550"/>
                </a:lnTo>
                <a:lnTo>
                  <a:pt x="12278" y="21425"/>
                </a:lnTo>
                <a:lnTo>
                  <a:pt x="12704" y="21299"/>
                </a:lnTo>
                <a:lnTo>
                  <a:pt x="12930" y="21149"/>
                </a:lnTo>
                <a:lnTo>
                  <a:pt x="13080" y="21074"/>
                </a:lnTo>
                <a:lnTo>
                  <a:pt x="13256" y="20948"/>
                </a:lnTo>
                <a:lnTo>
                  <a:pt x="13356" y="20823"/>
                </a:lnTo>
                <a:lnTo>
                  <a:pt x="13431" y="20648"/>
                </a:lnTo>
                <a:lnTo>
                  <a:pt x="13481" y="20472"/>
                </a:lnTo>
                <a:lnTo>
                  <a:pt x="13481" y="20297"/>
                </a:lnTo>
                <a:lnTo>
                  <a:pt x="13431" y="20071"/>
                </a:lnTo>
                <a:lnTo>
                  <a:pt x="14032" y="19871"/>
                </a:lnTo>
                <a:lnTo>
                  <a:pt x="14609" y="19645"/>
                </a:lnTo>
                <a:lnTo>
                  <a:pt x="15135" y="19395"/>
                </a:lnTo>
                <a:lnTo>
                  <a:pt x="15686" y="19094"/>
                </a:lnTo>
                <a:lnTo>
                  <a:pt x="16213" y="18768"/>
                </a:lnTo>
                <a:lnTo>
                  <a:pt x="16739" y="18393"/>
                </a:lnTo>
                <a:lnTo>
                  <a:pt x="17165" y="18017"/>
                </a:lnTo>
                <a:lnTo>
                  <a:pt x="17641" y="17591"/>
                </a:lnTo>
                <a:close/>
              </a:path>
              <a:path w="21600" h="21600">
                <a:moveTo>
                  <a:pt x="13431" y="1503"/>
                </a:moveTo>
                <a:lnTo>
                  <a:pt x="13080" y="1428"/>
                </a:lnTo>
                <a:lnTo>
                  <a:pt x="12780" y="1378"/>
                </a:lnTo>
                <a:lnTo>
                  <a:pt x="12479" y="1278"/>
                </a:lnTo>
                <a:lnTo>
                  <a:pt x="12128" y="1253"/>
                </a:lnTo>
                <a:lnTo>
                  <a:pt x="11802" y="1203"/>
                </a:lnTo>
                <a:lnTo>
                  <a:pt x="11477" y="1203"/>
                </a:lnTo>
                <a:lnTo>
                  <a:pt x="11151" y="1153"/>
                </a:lnTo>
                <a:lnTo>
                  <a:pt x="10825" y="1153"/>
                </a:lnTo>
                <a:lnTo>
                  <a:pt x="10449" y="1153"/>
                </a:lnTo>
                <a:lnTo>
                  <a:pt x="10174" y="1203"/>
                </a:lnTo>
                <a:lnTo>
                  <a:pt x="9798" y="1203"/>
                </a:lnTo>
                <a:lnTo>
                  <a:pt x="9472" y="1253"/>
                </a:lnTo>
                <a:lnTo>
                  <a:pt x="9171" y="1278"/>
                </a:lnTo>
                <a:lnTo>
                  <a:pt x="8820" y="1378"/>
                </a:lnTo>
                <a:lnTo>
                  <a:pt x="8545" y="1428"/>
                </a:lnTo>
                <a:lnTo>
                  <a:pt x="8219" y="1503"/>
                </a:lnTo>
                <a:moveTo>
                  <a:pt x="1529" y="8169"/>
                </a:moveTo>
                <a:lnTo>
                  <a:pt x="1453" y="8520"/>
                </a:lnTo>
                <a:lnTo>
                  <a:pt x="1403" y="8820"/>
                </a:lnTo>
                <a:lnTo>
                  <a:pt x="1303" y="9121"/>
                </a:lnTo>
                <a:lnTo>
                  <a:pt x="1253" y="9447"/>
                </a:lnTo>
                <a:lnTo>
                  <a:pt x="1228" y="9823"/>
                </a:lnTo>
                <a:lnTo>
                  <a:pt x="1228" y="10098"/>
                </a:lnTo>
                <a:lnTo>
                  <a:pt x="1178" y="10449"/>
                </a:lnTo>
                <a:lnTo>
                  <a:pt x="1178" y="10800"/>
                </a:lnTo>
                <a:lnTo>
                  <a:pt x="1178" y="11126"/>
                </a:lnTo>
                <a:lnTo>
                  <a:pt x="1228" y="11502"/>
                </a:lnTo>
                <a:lnTo>
                  <a:pt x="1228" y="11777"/>
                </a:lnTo>
                <a:lnTo>
                  <a:pt x="1253" y="12128"/>
                </a:lnTo>
                <a:lnTo>
                  <a:pt x="1303" y="12429"/>
                </a:lnTo>
                <a:lnTo>
                  <a:pt x="1403" y="12755"/>
                </a:lnTo>
                <a:lnTo>
                  <a:pt x="1453" y="13080"/>
                </a:lnTo>
                <a:lnTo>
                  <a:pt x="1529" y="13406"/>
                </a:lnTo>
                <a:moveTo>
                  <a:pt x="13431" y="20071"/>
                </a:moveTo>
                <a:lnTo>
                  <a:pt x="13080" y="20172"/>
                </a:lnTo>
                <a:lnTo>
                  <a:pt x="12780" y="20222"/>
                </a:lnTo>
                <a:lnTo>
                  <a:pt x="12479" y="20297"/>
                </a:lnTo>
                <a:lnTo>
                  <a:pt x="12128" y="20347"/>
                </a:lnTo>
                <a:lnTo>
                  <a:pt x="11802" y="20397"/>
                </a:lnTo>
                <a:lnTo>
                  <a:pt x="11477" y="20397"/>
                </a:lnTo>
                <a:lnTo>
                  <a:pt x="11151" y="20447"/>
                </a:lnTo>
                <a:lnTo>
                  <a:pt x="10825" y="20447"/>
                </a:lnTo>
                <a:lnTo>
                  <a:pt x="10449" y="20447"/>
                </a:lnTo>
                <a:lnTo>
                  <a:pt x="10174" y="20397"/>
                </a:lnTo>
                <a:lnTo>
                  <a:pt x="9798" y="20397"/>
                </a:lnTo>
                <a:lnTo>
                  <a:pt x="9472" y="20347"/>
                </a:lnTo>
                <a:lnTo>
                  <a:pt x="9171" y="20297"/>
                </a:lnTo>
                <a:lnTo>
                  <a:pt x="8820" y="20222"/>
                </a:lnTo>
                <a:lnTo>
                  <a:pt x="8545" y="20172"/>
                </a:lnTo>
                <a:lnTo>
                  <a:pt x="8219" y="20071"/>
                </a:lnTo>
                <a:moveTo>
                  <a:pt x="20071" y="13406"/>
                </a:moveTo>
                <a:lnTo>
                  <a:pt x="20172" y="13080"/>
                </a:lnTo>
                <a:lnTo>
                  <a:pt x="20222" y="12755"/>
                </a:lnTo>
                <a:lnTo>
                  <a:pt x="20297" y="12429"/>
                </a:lnTo>
                <a:lnTo>
                  <a:pt x="20347" y="12128"/>
                </a:lnTo>
                <a:lnTo>
                  <a:pt x="20397" y="11777"/>
                </a:lnTo>
                <a:lnTo>
                  <a:pt x="20447" y="11502"/>
                </a:lnTo>
                <a:lnTo>
                  <a:pt x="20447" y="11126"/>
                </a:lnTo>
                <a:lnTo>
                  <a:pt x="20447" y="10800"/>
                </a:lnTo>
                <a:lnTo>
                  <a:pt x="20447" y="10449"/>
                </a:lnTo>
                <a:lnTo>
                  <a:pt x="20447" y="10098"/>
                </a:lnTo>
                <a:lnTo>
                  <a:pt x="20397" y="9823"/>
                </a:lnTo>
                <a:lnTo>
                  <a:pt x="20347" y="9447"/>
                </a:lnTo>
                <a:lnTo>
                  <a:pt x="20297" y="9121"/>
                </a:lnTo>
                <a:lnTo>
                  <a:pt x="20222" y="8820"/>
                </a:lnTo>
                <a:lnTo>
                  <a:pt x="20172" y="8520"/>
                </a:lnTo>
                <a:lnTo>
                  <a:pt x="20071" y="8169"/>
                </a:lnTo>
              </a:path>
            </a:pathLst>
          </a:cu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82" name="Picture 4" descr="C:\Program Files\Microsoft Office\MEDIA\CAGCAT10\j0299587.wmf"/>
          <p:cNvPicPr/>
          <p:nvPr/>
        </p:nvPicPr>
        <p:blipFill>
          <a:blip r:embed="rId2"/>
          <a:stretch/>
        </p:blipFill>
        <p:spPr>
          <a:xfrm rot="20323800">
            <a:off x="254160" y="4759200"/>
            <a:ext cx="920520" cy="919440"/>
          </a:xfrm>
          <a:prstGeom prst="rect">
            <a:avLst/>
          </a:prstGeom>
          <a:ln w="0">
            <a:noFill/>
          </a:ln>
        </p:spPr>
      </p:pic>
      <p:pic>
        <p:nvPicPr>
          <p:cNvPr id="383" name="Picture 2" descr="http://www.nvsd44.bc.ca/sites/img/2/2-470-4069.GIF"/>
          <p:cNvPicPr/>
          <p:nvPr/>
        </p:nvPicPr>
        <p:blipFill>
          <a:blip r:embed="rId3"/>
          <a:srcRect l="68803" t="25119" r="3999" b="20076"/>
          <a:stretch/>
        </p:blipFill>
        <p:spPr>
          <a:xfrm>
            <a:off x="8077320" y="1523880"/>
            <a:ext cx="990360" cy="1398600"/>
          </a:xfrm>
          <a:prstGeom prst="rect">
            <a:avLst/>
          </a:prstGeom>
          <a:ln w="0">
            <a:noFill/>
          </a:ln>
        </p:spPr>
      </p:pic>
      <p:sp>
        <p:nvSpPr>
          <p:cNvPr id="384" name="Text Box 14"/>
          <p:cNvSpPr/>
          <p:nvPr/>
        </p:nvSpPr>
        <p:spPr>
          <a:xfrm>
            <a:off x="5486400" y="1981080"/>
            <a:ext cx="25146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9B21-4DE4-4504-B4FE-324128A1140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6" name="PlaceHolder 1"/>
          <p:cNvSpPr>
            <a:spLocks noGrp="1"/>
          </p:cNvSpPr>
          <p:nvPr>
            <p:ph type="title"/>
          </p:nvPr>
        </p:nvSpPr>
        <p:spPr>
          <a:xfrm>
            <a:off x="609120" y="228240"/>
            <a:ext cx="68072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Frayer Model/Four Square</a:t>
            </a:r>
            <a:endParaRPr b="0" lang="en-US" sz="4000" spc="-1" strike="noStrike">
              <a:solidFill>
                <a:srgbClr val="372221"/>
              </a:solidFill>
              <a:latin typeface="Arial"/>
            </a:endParaRPr>
          </a:p>
        </p:txBody>
      </p:sp>
      <p:graphicFrame>
        <p:nvGraphicFramePr>
          <p:cNvPr id="387" name=""/>
          <p:cNvGraphicFramePr/>
          <p:nvPr/>
        </p:nvGraphicFramePr>
        <p:xfrm>
          <a:off x="228600" y="1752480"/>
          <a:ext cx="8610480" cy="4778640"/>
        </p:xfrm>
        <a:graphic>
          <a:graphicData uri="http://schemas.openxmlformats.org/drawingml/2006/table">
            <a:tbl>
              <a:tblPr/>
              <a:tblGrid>
                <a:gridCol w="4305240"/>
                <a:gridCol w="4305240"/>
              </a:tblGrid>
              <a:tr h="2505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Definition</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Matter that has a definite volume but not a definite shape</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Characteristics</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Forms a puddle when spilled</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akes the shape of the container</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an flow</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73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Examples</a:t>
                      </a:r>
                      <a:r>
                        <a:rPr b="1" lang="en-US" sz="2400" spc="-1" strike="noStrike">
                          <a:solidFill>
                            <a:srgbClr val="ffffff"/>
                          </a:solidFill>
                          <a:latin typeface="Kristen ITC"/>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     </a:t>
                      </a:r>
                      <a:r>
                        <a:rPr b="1" lang="en-US" sz="2400" spc="-1" strike="noStrike">
                          <a:solidFill>
                            <a:srgbClr val="ffffff"/>
                          </a:solidFill>
                          <a:latin typeface="Kristen ITC"/>
                        </a:rPr>
                        <a:t>Non-examples</a:t>
                      </a:r>
                      <a:r>
                        <a:rPr b="1" lang="en-US" sz="2400" spc="-1" strike="noStrike">
                          <a:solidFill>
                            <a:srgbClr val="ffffff"/>
                          </a:solidFill>
                          <a:latin typeface="Kristen ITC"/>
                        </a:rPr>
                        <a:t>?</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Oval 21"/>
          <p:cNvSpPr/>
          <p:nvPr/>
        </p:nvSpPr>
        <p:spPr>
          <a:xfrm>
            <a:off x="3733920" y="3809880"/>
            <a:ext cx="16002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iquid</a:t>
            </a:r>
            <a:endParaRPr b="0" lang="en-US" sz="2800" spc="-1" strike="noStrike">
              <a:solidFill>
                <a:srgbClr val="ffffff"/>
              </a:solidFill>
              <a:latin typeface="Arial"/>
            </a:endParaRPr>
          </a:p>
        </p:txBody>
      </p:sp>
      <p:pic>
        <p:nvPicPr>
          <p:cNvPr id="389" name="Picture 19" descr="C:\Documents and Settings\afloyd\Local Settings\Temporary Internet Files\Content.IE5\2XCDIHAD\MCHH00832_0000[1].wmf"/>
          <p:cNvPicPr/>
          <p:nvPr/>
        </p:nvPicPr>
        <p:blipFill>
          <a:blip r:embed="rId1"/>
          <a:stretch/>
        </p:blipFill>
        <p:spPr>
          <a:xfrm>
            <a:off x="2819520" y="4648320"/>
            <a:ext cx="1320840" cy="1038240"/>
          </a:xfrm>
          <a:prstGeom prst="rect">
            <a:avLst/>
          </a:prstGeom>
          <a:ln w="0">
            <a:noFill/>
          </a:ln>
        </p:spPr>
      </p:pic>
      <p:pic>
        <p:nvPicPr>
          <p:cNvPr id="390" name="Picture 20" descr="C:\Documents and Settings\afloyd\Local Settings\Temporary Internet Files\Content.IE5\ZNP771OW\MCj04417500000[1].png"/>
          <p:cNvPicPr/>
          <p:nvPr/>
        </p:nvPicPr>
        <p:blipFill>
          <a:blip r:embed="rId2"/>
          <a:stretch/>
        </p:blipFill>
        <p:spPr>
          <a:xfrm>
            <a:off x="1676520" y="4800600"/>
            <a:ext cx="1523880" cy="1523880"/>
          </a:xfrm>
          <a:prstGeom prst="rect">
            <a:avLst/>
          </a:prstGeom>
          <a:ln w="0">
            <a:noFill/>
          </a:ln>
        </p:spPr>
      </p:pic>
      <p:pic>
        <p:nvPicPr>
          <p:cNvPr id="391" name="Picture 21" descr="C:\Documents and Settings\afloyd\Local Settings\Temporary Internet Files\Content.IE5\C58NCVWF\MPj04007290000[1].jpg"/>
          <p:cNvPicPr/>
          <p:nvPr/>
        </p:nvPicPr>
        <p:blipFill>
          <a:blip r:embed="rId3"/>
          <a:stretch/>
        </p:blipFill>
        <p:spPr>
          <a:xfrm>
            <a:off x="457200" y="4648320"/>
            <a:ext cx="1270080" cy="1903320"/>
          </a:xfrm>
          <a:prstGeom prst="rect">
            <a:avLst/>
          </a:prstGeom>
          <a:ln w="0">
            <a:noFill/>
          </a:ln>
        </p:spPr>
      </p:pic>
      <p:pic>
        <p:nvPicPr>
          <p:cNvPr id="392" name="Picture 23" descr="C:\Documents and Settings\afloyd\Local Settings\Temporary Internet Files\Content.IE5\ATUNA1IJ\MPj04330520000[1].jpg"/>
          <p:cNvPicPr/>
          <p:nvPr/>
        </p:nvPicPr>
        <p:blipFill>
          <a:blip r:embed="rId4"/>
          <a:stretch/>
        </p:blipFill>
        <p:spPr>
          <a:xfrm>
            <a:off x="7467480" y="4724280"/>
            <a:ext cx="1143000" cy="1711440"/>
          </a:xfrm>
          <a:prstGeom prst="rect">
            <a:avLst/>
          </a:prstGeom>
          <a:ln w="0">
            <a:noFill/>
          </a:ln>
        </p:spPr>
      </p:pic>
      <p:pic>
        <p:nvPicPr>
          <p:cNvPr id="393" name="Picture 26" descr="C:\Documents and Settings\afloyd\Local Settings\Temporary Internet Files\Content.IE5\7IG3ZT0L\MMj02836340000[1].gif"/>
          <p:cNvPicPr/>
          <p:nvPr/>
        </p:nvPicPr>
        <p:blipFill>
          <a:blip r:embed="rId5"/>
          <a:stretch/>
        </p:blipFill>
        <p:spPr>
          <a:xfrm>
            <a:off x="6324480" y="4800600"/>
            <a:ext cx="1419480" cy="1000080"/>
          </a:xfrm>
          <a:prstGeom prst="rect">
            <a:avLst/>
          </a:prstGeom>
          <a:ln w="0">
            <a:noFill/>
          </a:ln>
        </p:spPr>
      </p:pic>
      <p:pic>
        <p:nvPicPr>
          <p:cNvPr id="394" name="Picture 27" descr="C:\Documents and Settings\afloyd\Local Settings\Temporary Internet Files\Content.IE5\H7RF1L0E\MCj04134740000[1].wmf"/>
          <p:cNvPicPr/>
          <p:nvPr/>
        </p:nvPicPr>
        <p:blipFill>
          <a:blip r:embed="rId6"/>
          <a:stretch/>
        </p:blipFill>
        <p:spPr>
          <a:xfrm>
            <a:off x="4572000" y="5181480"/>
            <a:ext cx="1757520" cy="1330560"/>
          </a:xfrm>
          <a:prstGeom prst="rect">
            <a:avLst/>
          </a:prstGeom>
          <a:ln w="0">
            <a:noFill/>
          </a:ln>
        </p:spPr>
      </p:pic>
      <p:pic>
        <p:nvPicPr>
          <p:cNvPr id="395" name="Picture 2" descr="http://www.nvsd44.bc.ca/sites/img/2/2-470-4069.GIF"/>
          <p:cNvPicPr/>
          <p:nvPr/>
        </p:nvPicPr>
        <p:blipFill>
          <a:blip r:embed="rId7"/>
          <a:srcRect l="38400" t="22840" r="34402" b="20076"/>
          <a:stretch/>
        </p:blipFill>
        <p:spPr>
          <a:xfrm>
            <a:off x="685800" y="2971800"/>
            <a:ext cx="83808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5960" y="149400"/>
            <a:ext cx="883908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ES Resources</a:t>
            </a:r>
            <a:endParaRPr b="0" lang="en-US" sz="5400" spc="-1" strike="noStrike">
              <a:solidFill>
                <a:srgbClr val="ffffff"/>
              </a:solidFill>
              <a:latin typeface="Calibri"/>
            </a:endParaRPr>
          </a:p>
        </p:txBody>
      </p:sp>
      <p:sp>
        <p:nvSpPr>
          <p:cNvPr id="397" name=""/>
          <p:cNvSpPr txBox="1"/>
          <p:nvPr/>
        </p:nvSpPr>
        <p:spPr>
          <a:xfrm>
            <a:off x="151920" y="1294920"/>
            <a:ext cx="6782040" cy="208116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Energy Explorations (3-5)</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AIMS: Activities Integrating                   Math &amp; Scien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p:txBody>
      </p:sp>
      <p:sp>
        <p:nvSpPr>
          <p:cNvPr id="398" name="Content Placeholder 2"/>
          <p:cNvSpPr/>
          <p:nvPr/>
        </p:nvSpPr>
        <p:spPr>
          <a:xfrm>
            <a:off x="2057400" y="3505320"/>
            <a:ext cx="5410080" cy="1584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Melting, Freezing, and Boiling Science Projects with Mat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by Robert Gardner</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399" name="Content Placeholder 2"/>
          <p:cNvSpPr/>
          <p:nvPr/>
        </p:nvSpPr>
        <p:spPr>
          <a:xfrm>
            <a:off x="2590920" y="5486400"/>
            <a:ext cx="480060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Solids, Liquids and Gases </a:t>
            </a:r>
            <a:r>
              <a:rPr b="0" lang="en-US" sz="3200" spc="-1" strike="noStrike">
                <a:solidFill>
                  <a:srgbClr val="d9d9d9"/>
                </a:solidFill>
                <a:latin typeface="Calibri"/>
              </a:rPr>
              <a:t>by Ontario Science Centre</a:t>
            </a:r>
            <a:endParaRPr b="0" lang="en-US" sz="3200" spc="-1" strike="noStrike">
              <a:solidFill>
                <a:srgbClr val="ffffff"/>
              </a:solidFill>
              <a:latin typeface="Arial"/>
            </a:endParaRPr>
          </a:p>
        </p:txBody>
      </p:sp>
      <p:pic>
        <p:nvPicPr>
          <p:cNvPr id="400" name="Picture 9" descr="EnergyExplorations.jpg"/>
          <p:cNvPicPr/>
          <p:nvPr/>
        </p:nvPicPr>
        <p:blipFill>
          <a:blip r:embed="rId1"/>
          <a:stretch/>
        </p:blipFill>
        <p:spPr>
          <a:xfrm rot="326400">
            <a:off x="5975280" y="995400"/>
            <a:ext cx="1801800" cy="2357280"/>
          </a:xfrm>
          <a:prstGeom prst="rect">
            <a:avLst/>
          </a:prstGeom>
          <a:ln w="0">
            <a:noFill/>
          </a:ln>
        </p:spPr>
      </p:pic>
      <p:pic>
        <p:nvPicPr>
          <p:cNvPr id="401" name="Picture 10" descr="91h-6knanZS__AA1500_.jpg"/>
          <p:cNvPicPr/>
          <p:nvPr/>
        </p:nvPicPr>
        <p:blipFill>
          <a:blip r:embed="rId2"/>
          <a:srcRect l="9088" t="0" r="9088" b="0"/>
          <a:stretch/>
        </p:blipFill>
        <p:spPr>
          <a:xfrm rot="21258600">
            <a:off x="485640" y="3207960"/>
            <a:ext cx="1797120" cy="2195640"/>
          </a:xfrm>
          <a:prstGeom prst="rect">
            <a:avLst/>
          </a:prstGeom>
          <a:ln w="0">
            <a:noFill/>
          </a:ln>
        </p:spPr>
      </p:pic>
      <p:pic>
        <p:nvPicPr>
          <p:cNvPr id="402" name="Picture 11" descr="31Qd4JSa9WL__AA160_.jpg"/>
          <p:cNvPicPr/>
          <p:nvPr/>
        </p:nvPicPr>
        <p:blipFill>
          <a:blip r:embed="rId3"/>
          <a:srcRect l="5008" t="0" r="5008" b="0"/>
          <a:stretch/>
        </p:blipFill>
        <p:spPr>
          <a:xfrm rot="366600">
            <a:off x="7316280" y="5265360"/>
            <a:ext cx="1371600" cy="15238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38844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299" name=""/>
          <p:cNvSpPr txBox="1"/>
          <p:nvPr/>
        </p:nvSpPr>
        <p:spPr>
          <a:xfrm>
            <a:off x="151920" y="1143000"/>
            <a:ext cx="8991720" cy="2519640"/>
          </a:xfrm>
          <a:prstGeom prst="rect">
            <a:avLst/>
          </a:prstGeom>
          <a:noFill/>
          <a:ln w="0">
            <a:noFill/>
          </a:ln>
        </p:spPr>
        <p:txBody>
          <a:bodyPr lIns="0" rIns="0" tIns="0" bIns="0" anchor="t">
            <a:normAutofit/>
          </a:bodyPr>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graphicFrame>
        <p:nvGraphicFramePr>
          <p:cNvPr id="300" name=""/>
          <p:cNvGraphicFramePr/>
          <p:nvPr/>
        </p:nvGraphicFramePr>
        <p:xfrm>
          <a:off x="609480" y="1295280"/>
          <a:ext cx="8077320" cy="4754520"/>
        </p:xfrm>
        <a:graphic>
          <a:graphicData uri="http://schemas.openxmlformats.org/drawingml/2006/table">
            <a:tbl>
              <a:tblPr/>
              <a:tblGrid>
                <a:gridCol w="1984320"/>
                <a:gridCol w="6093000"/>
              </a:tblGrid>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irst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Human Body</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Second 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s Features</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Plant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ird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rces &amp; Motion</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Moon/Sun System</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urth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Matter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nergy</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bl>
          </a:graphicData>
        </a:graphic>
      </p:graphicFrame>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5960" y="149400"/>
            <a:ext cx="883908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ES Resources</a:t>
            </a:r>
            <a:endParaRPr b="0" lang="en-US" sz="5400" spc="-1" strike="noStrike">
              <a:solidFill>
                <a:srgbClr val="ffffff"/>
              </a:solidFill>
              <a:latin typeface="Calibri"/>
            </a:endParaRPr>
          </a:p>
        </p:txBody>
      </p:sp>
      <p:sp>
        <p:nvSpPr>
          <p:cNvPr id="404" name=""/>
          <p:cNvSpPr txBox="1"/>
          <p:nvPr/>
        </p:nvSpPr>
        <p:spPr>
          <a:xfrm>
            <a:off x="151920" y="1294920"/>
            <a:ext cx="6782040" cy="208116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Answers to Science Questions from the Stop Faking It! Guy</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Dr. William C. Robertson, NSTA</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p:txBody>
      </p:sp>
      <p:pic>
        <p:nvPicPr>
          <p:cNvPr id="405" name="Picture 4" descr="science book.jpg"/>
          <p:cNvPicPr/>
          <p:nvPr/>
        </p:nvPicPr>
        <p:blipFill>
          <a:blip r:embed="rId1"/>
          <a:srcRect l="12673" t="0" r="12673" b="0"/>
          <a:stretch/>
        </p:blipFill>
        <p:spPr>
          <a:xfrm rot="347400">
            <a:off x="6821280" y="1074240"/>
            <a:ext cx="1773000" cy="2374920"/>
          </a:xfrm>
          <a:prstGeom prst="rect">
            <a:avLst/>
          </a:prstGeom>
          <a:ln w="0">
            <a:noFill/>
          </a:ln>
        </p:spPr>
      </p:pic>
      <p:sp>
        <p:nvSpPr>
          <p:cNvPr id="406" name="Content Placeholder 2"/>
          <p:cNvSpPr/>
          <p:nvPr/>
        </p:nvSpPr>
        <p:spPr>
          <a:xfrm>
            <a:off x="4572000" y="4267080"/>
            <a:ext cx="3962520" cy="206712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top Faking It!</a:t>
            </a:r>
            <a:r>
              <a:rPr b="0" lang="en-US" sz="3200" spc="-1" strike="noStrike">
                <a:solidFill>
                  <a:srgbClr val="d9d9d9"/>
                </a:solidFill>
                <a:latin typeface="Calibri"/>
              </a:rPr>
              <a:t> Books</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Dr. William C. Robertson</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407" name="Picture 9" descr="51KTJDDSYYL__SL500_AA300_.jpg"/>
          <p:cNvPicPr/>
          <p:nvPr/>
        </p:nvPicPr>
        <p:blipFill>
          <a:blip r:embed="rId2"/>
          <a:srcRect l="15331" t="0" r="15331" b="0"/>
          <a:stretch/>
        </p:blipFill>
        <p:spPr>
          <a:xfrm rot="389400">
            <a:off x="2746080" y="3227040"/>
            <a:ext cx="1981080" cy="2857320"/>
          </a:xfrm>
          <a:prstGeom prst="rect">
            <a:avLst/>
          </a:prstGeom>
          <a:ln w="0">
            <a:noFill/>
          </a:ln>
        </p:spPr>
      </p:pic>
      <p:pic>
        <p:nvPicPr>
          <p:cNvPr id="408" name="Picture 6" descr="51X4DS3NA5L__SL500_AA300_.jpg"/>
          <p:cNvPicPr/>
          <p:nvPr/>
        </p:nvPicPr>
        <p:blipFill>
          <a:blip r:embed="rId3"/>
          <a:srcRect l="15331" t="0" r="15331" b="0"/>
          <a:stretch/>
        </p:blipFill>
        <p:spPr>
          <a:xfrm rot="21027600">
            <a:off x="755280" y="3726000"/>
            <a:ext cx="1981080" cy="28573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8" descr="untitled 5.bmp"/>
          <p:cNvPicPr/>
          <p:nvPr/>
        </p:nvPicPr>
        <p:blipFill>
          <a:blip r:embed="rId1"/>
          <a:srcRect l="12453" t="0" r="10016" b="0"/>
          <a:stretch/>
        </p:blipFill>
        <p:spPr>
          <a:xfrm rot="21207600">
            <a:off x="788760" y="3125880"/>
            <a:ext cx="1477800" cy="1904760"/>
          </a:xfrm>
          <a:prstGeom prst="rect">
            <a:avLst/>
          </a:prstGeom>
          <a:ln w="0">
            <a:noFill/>
          </a:ln>
        </p:spPr>
      </p:pic>
      <p:sp>
        <p:nvSpPr>
          <p:cNvPr id="410" name="PlaceHolder 1"/>
          <p:cNvSpPr>
            <a:spLocks noGrp="1"/>
          </p:cNvSpPr>
          <p:nvPr>
            <p:ph type="title"/>
          </p:nvPr>
        </p:nvSpPr>
        <p:spPr>
          <a:xfrm>
            <a:off x="-228960" y="39492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411" name=""/>
          <p:cNvSpPr txBox="1"/>
          <p:nvPr/>
        </p:nvSpPr>
        <p:spPr>
          <a:xfrm>
            <a:off x="228240" y="1981080"/>
            <a:ext cx="8534520" cy="3803760"/>
          </a:xfrm>
          <a:prstGeom prst="rect">
            <a:avLst/>
          </a:prstGeom>
          <a:noFill/>
          <a:ln w="0">
            <a:noFill/>
          </a:ln>
        </p:spPr>
        <p:txBody>
          <a:bodyPr lIns="0" rIns="0" tIns="0" bIns="0" anchor="t">
            <a:normAutofit/>
          </a:bodyPr>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ssessment Probes</a:t>
            </a:r>
            <a:endParaRPr b="0" lang="en-US" sz="40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Is It Matter?</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et Jeans</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Floating Balloon</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hat’s in the Bubbles?</a:t>
            </a:r>
            <a:endParaRPr b="0" lang="en-US" sz="4000" spc="-1" strike="noStrike">
              <a:solidFill>
                <a:srgbClr val="ffffff"/>
              </a:solidFill>
              <a:latin typeface="Calibri"/>
            </a:endParaRPr>
          </a:p>
        </p:txBody>
      </p:sp>
      <p:pic>
        <p:nvPicPr>
          <p:cNvPr id="412" name="Picture 5" descr="untitled 6.bmp"/>
          <p:cNvPicPr/>
          <p:nvPr/>
        </p:nvPicPr>
        <p:blipFill>
          <a:blip r:embed="rId2"/>
          <a:srcRect l="13481" t="0" r="14131" b="0"/>
          <a:stretch/>
        </p:blipFill>
        <p:spPr>
          <a:xfrm>
            <a:off x="152280" y="4572000"/>
            <a:ext cx="1447920" cy="200016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920"/>
            <a:ext cx="8229600" cy="2151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 </a:t>
            </a:r>
            <a:br>
              <a:rPr sz="4400"/>
            </a:br>
            <a:endParaRPr b="0" lang="en-US" sz="5400" spc="-1" strike="noStrike">
              <a:solidFill>
                <a:srgbClr val="ffffff"/>
              </a:solidFill>
              <a:latin typeface="Calibri"/>
            </a:endParaRPr>
          </a:p>
        </p:txBody>
      </p:sp>
      <p:sp>
        <p:nvSpPr>
          <p:cNvPr id="414" name=""/>
          <p:cNvSpPr txBox="1"/>
          <p:nvPr/>
        </p:nvSpPr>
        <p:spPr>
          <a:xfrm>
            <a:off x="228240" y="1447560"/>
            <a:ext cx="4419720" cy="40500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DPI Wiki Spa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u="sng">
                <a:solidFill>
                  <a:srgbClr val="f0ed7b"/>
                </a:solidFill>
                <a:uFillTx/>
                <a:latin typeface="Calibri"/>
                <a:hlinkClick r:id="rId2"/>
              </a:rPr>
              <a:t>http://www.ncdpi.wikispaces.ne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	</a:t>
            </a: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415" name="Picture 5" descr=""/>
          <p:cNvPicPr/>
          <p:nvPr/>
        </p:nvPicPr>
        <p:blipFill>
          <a:blip r:embed="rId3"/>
          <a:srcRect l="2377" t="5172" r="7552" b="0"/>
          <a:stretch/>
        </p:blipFill>
        <p:spPr>
          <a:xfrm>
            <a:off x="4648320" y="1676520"/>
            <a:ext cx="4324320" cy="48765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Glossary of Terms</a:t>
            </a:r>
            <a:endParaRPr b="0" lang="en-US" sz="4800" spc="-1" strike="noStrike">
              <a:solidFill>
                <a:srgbClr val="ffffff"/>
              </a:solidFill>
              <a:latin typeface="Calibri"/>
            </a:endParaRPr>
          </a:p>
        </p:txBody>
      </p:sp>
      <p:sp>
        <p:nvSpPr>
          <p:cNvPr id="417" name=""/>
          <p:cNvSpPr txBox="1"/>
          <p:nvPr/>
        </p:nvSpPr>
        <p:spPr>
          <a:xfrm>
            <a:off x="76320" y="1136160"/>
            <a:ext cx="4572000" cy="6154200"/>
          </a:xfrm>
          <a:prstGeom prst="rect">
            <a:avLst/>
          </a:prstGeom>
          <a:noFill/>
          <a:ln w="0">
            <a:noFill/>
          </a:ln>
        </p:spPr>
        <p:txBody>
          <a:bodyPr lIns="0" rIns="0" tIns="0" bIns="0" anchor="t">
            <a:normAutofit/>
          </a:bodyPr>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Represents the big, powerful concepts and ideas teachers need to know and understand </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Not exhaustive, seeks to address critical terms and definitions essential in building content knowledge and understanding</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Living document </a:t>
            </a:r>
            <a:endParaRPr b="0" lang="en-US" sz="3200" spc="-1" strike="noStrike">
              <a:solidFill>
                <a:srgbClr val="ffffff"/>
              </a:solidFill>
              <a:latin typeface="Calibri"/>
            </a:endParaRPr>
          </a:p>
          <a:p>
            <a:pPr marL="396720" indent="-396720">
              <a:lnSpc>
                <a:spcPct val="90000"/>
              </a:lnSpc>
              <a:spcBef>
                <a:spcPts val="799"/>
              </a:spcBef>
              <a:buClr>
                <a:srgbClr val="92d050"/>
              </a:buClr>
              <a:buFont typeface="Constant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418" name="Picture 4" descr=""/>
          <p:cNvPicPr/>
          <p:nvPr/>
        </p:nvPicPr>
        <p:blipFill>
          <a:blip r:embed="rId1"/>
          <a:srcRect l="7231" t="5624" r="4981" b="0"/>
          <a:stretch/>
        </p:blipFill>
        <p:spPr>
          <a:xfrm>
            <a:off x="4664160" y="1566720"/>
            <a:ext cx="4349520" cy="4408560"/>
          </a:xfrm>
          <a:prstGeom prst="rect">
            <a:avLst/>
          </a:prstGeom>
          <a:ln w="12600">
            <a:solidFill>
              <a:srgbClr val="ffffff"/>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K-5 Science Units</a:t>
            </a:r>
            <a:endParaRPr b="0" lang="en-US" sz="4800" spc="-1" strike="noStrike">
              <a:solidFill>
                <a:srgbClr val="ffffff"/>
              </a:solidFill>
              <a:latin typeface="Calibri"/>
            </a:endParaRPr>
          </a:p>
        </p:txBody>
      </p:sp>
      <p:sp>
        <p:nvSpPr>
          <p:cNvPr id="420" name=""/>
          <p:cNvSpPr txBox="1"/>
          <p:nvPr/>
        </p:nvSpPr>
        <p:spPr>
          <a:xfrm>
            <a:off x="228600" y="990720"/>
            <a:ext cx="8686800" cy="586728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421" name="Picture 4" descr=""/>
          <p:cNvPicPr/>
          <p:nvPr/>
        </p:nvPicPr>
        <p:blipFill>
          <a:blip r:embed="rId1"/>
          <a:srcRect l="2689" t="4432" r="4787" b="0"/>
          <a:stretch/>
        </p:blipFill>
        <p:spPr>
          <a:xfrm>
            <a:off x="3645000" y="1096920"/>
            <a:ext cx="4794120" cy="5589720"/>
          </a:xfrm>
          <a:prstGeom prst="rect">
            <a:avLst/>
          </a:prstGeom>
          <a:ln w="0">
            <a:noFill/>
          </a:ln>
        </p:spPr>
      </p:pic>
      <p:grpSp>
        <p:nvGrpSpPr>
          <p:cNvPr id="422" name="Up Arrow 4"/>
          <p:cNvGrpSpPr/>
          <p:nvPr/>
        </p:nvGrpSpPr>
        <p:grpSpPr>
          <a:xfrm>
            <a:off x="1219320" y="3846600"/>
            <a:ext cx="2590560" cy="1530360"/>
            <a:chOff x="1219320" y="3846600"/>
            <a:chExt cx="2590560" cy="1530360"/>
          </a:xfrm>
        </p:grpSpPr>
        <p:pic>
          <p:nvPicPr>
            <p:cNvPr id="423" name="Up Arrow 4" descr=""/>
            <p:cNvPicPr/>
            <p:nvPr/>
          </p:nvPicPr>
          <p:blipFill>
            <a:blip r:embed="rId2"/>
            <a:stretch/>
          </p:blipFill>
          <p:spPr>
            <a:xfrm>
              <a:off x="1219320" y="3846600"/>
              <a:ext cx="2590560" cy="1530360"/>
            </a:xfrm>
            <a:prstGeom prst="rect">
              <a:avLst/>
            </a:prstGeom>
            <a:ln w="0">
              <a:noFill/>
            </a:ln>
          </p:spPr>
        </p:pic>
        <p:sp>
          <p:nvSpPr>
            <p:cNvPr id="424" name=""/>
            <p:cNvSpPr/>
            <p:nvPr/>
          </p:nvSpPr>
          <p:spPr>
            <a:xfrm rot="5400000">
              <a:off x="1999800" y="3524400"/>
              <a:ext cx="685800" cy="2095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29680"/>
            <a:ext cx="838224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K-5 Assessment Examples</a:t>
            </a:r>
            <a:endParaRPr b="0" lang="en-US" sz="5400" spc="-1" strike="noStrike">
              <a:solidFill>
                <a:srgbClr val="ffffff"/>
              </a:solidFill>
              <a:latin typeface="Calibri"/>
            </a:endParaRPr>
          </a:p>
        </p:txBody>
      </p:sp>
      <p:sp>
        <p:nvSpPr>
          <p:cNvPr id="426" name=""/>
          <p:cNvSpPr txBox="1"/>
          <p:nvPr/>
        </p:nvSpPr>
        <p:spPr>
          <a:xfrm>
            <a:off x="380880" y="1219320"/>
            <a:ext cx="8382240" cy="142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Provides examples that illustrate ways in which the standards might be assessed</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427" name="Picture 4" descr=""/>
          <p:cNvPicPr/>
          <p:nvPr/>
        </p:nvPicPr>
        <p:blipFill>
          <a:blip r:embed="rId3"/>
          <a:srcRect l="1731" t="8573" r="0" b="0"/>
          <a:stretch/>
        </p:blipFill>
        <p:spPr>
          <a:xfrm>
            <a:off x="784080" y="2233440"/>
            <a:ext cx="7786800" cy="43196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302" name=""/>
          <p:cNvSpPr txBox="1"/>
          <p:nvPr/>
        </p:nvSpPr>
        <p:spPr>
          <a:xfrm>
            <a:off x="380520" y="2437920"/>
            <a:ext cx="8534520" cy="553428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Physical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Matter:  Properties and Change</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2 Understand the structure and properties of matter before and after they        undergo a change.</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303" name="Picture 6" descr="C:\Documents and Settings\afloyd\Local Settings\Temporary Internet Files\Content.IE5\4893IQ6U\MC900334366[1].wmf"/>
          <p:cNvPicPr/>
          <p:nvPr/>
        </p:nvPicPr>
        <p:blipFill>
          <a:blip r:embed="rId2"/>
          <a:stretch/>
        </p:blipFill>
        <p:spPr>
          <a:xfrm>
            <a:off x="533520" y="4419720"/>
            <a:ext cx="1077840" cy="22096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305" name=""/>
          <p:cNvSpPr txBox="1"/>
          <p:nvPr/>
        </p:nvSpPr>
        <p:spPr>
          <a:xfrm>
            <a:off x="151920" y="1142640"/>
            <a:ext cx="8991720" cy="774396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Calibri"/>
              </a:rPr>
              <a:t>3.P.2 Understand the structure and properties of matter before and after they undergo a change.</a:t>
            </a: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3.P.2.1  Recognize that air is a substance that surrounds us, takes up space and has mass.</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3.P.2.2  Compare solids, liquids, and gases based on their basic properties.</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3.P.2.3  Summarize changes that occur to the observable properties of materials when different degrees of heat are applied to them, such as melting ice or ice cream, boiling water or an egg, or freezing water.</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307" name=""/>
          <p:cNvSpPr txBox="1"/>
          <p:nvPr/>
        </p:nvSpPr>
        <p:spPr>
          <a:xfrm>
            <a:off x="380520" y="2438280"/>
            <a:ext cx="8534520" cy="503568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Physical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nergy:  Conservation and Transfer</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3 Recognize how energy can be transferred from one object to another.</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308" name="Picture 4" descr="C:\Documents and Settings\afloyd\Local Settings\Temporary Internet Files\Content.IE5\9AOE21SE\MC900078783[1].wmf"/>
          <p:cNvPicPr/>
          <p:nvPr/>
        </p:nvPicPr>
        <p:blipFill>
          <a:blip r:embed="rId2"/>
          <a:stretch/>
        </p:blipFill>
        <p:spPr>
          <a:xfrm>
            <a:off x="3429000" y="4871880"/>
            <a:ext cx="1849320" cy="19861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310" name=""/>
          <p:cNvSpPr txBox="1"/>
          <p:nvPr/>
        </p:nvSpPr>
        <p:spPr>
          <a:xfrm>
            <a:off x="151920" y="1328400"/>
            <a:ext cx="8991720" cy="728172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ffff"/>
                </a:solidFill>
                <a:latin typeface="Calibri"/>
              </a:rPr>
              <a:t>3.P.3 Recognize how energy can be transferred from one object to another.</a:t>
            </a:r>
            <a:endParaRPr b="0" lang="en-US" sz="36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3.1  Recognize that energy can be transferred from one object to another by rubbing them against each other.</a:t>
            </a:r>
            <a:endParaRPr b="0" lang="en-US" sz="3600" spc="-1" strike="noStrike">
              <a:solidFill>
                <a:srgbClr val="ffffff"/>
              </a:solidFill>
              <a:latin typeface="Calibri"/>
            </a:endParaRPr>
          </a:p>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3.2  Recognize that energy can be transferred from a warmer object to a cooler one by contact or at a distance and the cooler object gets warmer.</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Diagram 1" descr=""/>
          <p:cNvPicPr/>
          <p:nvPr/>
        </p:nvPicPr>
        <p:blipFill>
          <a:blip r:embed="rId1"/>
          <a:stretch/>
        </p:blipFill>
        <p:spPr>
          <a:xfrm>
            <a:off x="6480" y="1219320"/>
            <a:ext cx="9021600" cy="5035320"/>
          </a:xfrm>
          <a:prstGeom prst="rect">
            <a:avLst/>
          </a:prstGeom>
          <a:ln w="0">
            <a:noFill/>
          </a:ln>
        </p:spPr>
      </p:pic>
      <p:sp>
        <p:nvSpPr>
          <p:cNvPr id="312" name="Title 1"/>
          <p:cNvSpPr/>
          <p:nvPr/>
        </p:nvSpPr>
        <p:spPr>
          <a:xfrm>
            <a:off x="228600" y="181080"/>
            <a:ext cx="8686800" cy="1495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ea typeface="Arial"/>
              </a:rPr>
              <a:t>Matter:  Properties and Change</a:t>
            </a:r>
            <a:endParaRPr b="0" lang="en-US" sz="5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640" y="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14" name=""/>
          <p:cNvSpPr txBox="1"/>
          <p:nvPr/>
        </p:nvSpPr>
        <p:spPr>
          <a:xfrm>
            <a:off x="380520" y="838080"/>
            <a:ext cx="8915400" cy="81676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escribe each substan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Sort into solids, liquids, or gase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Create a definition for each</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r>
              <a:rPr b="0" lang="en-US" sz="4000" spc="-1" strike="noStrike">
                <a:solidFill>
                  <a:srgbClr val="d9d9d9"/>
                </a:solidFill>
                <a:latin typeface="Calibri"/>
              </a:rPr>
              <a:t>	</a:t>
            </a:r>
            <a:r>
              <a:rPr b="0" lang="en-US" sz="4000" spc="-1" strike="noStrike">
                <a:solidFill>
                  <a:srgbClr val="d9d9d9"/>
                </a:solidFill>
                <a:latin typeface="Calibri"/>
              </a:rPr>
              <a:t>	</a:t>
            </a:r>
            <a:r>
              <a:rPr b="1" lang="en-US" sz="4000" spc="-1" strike="noStrike">
                <a:solidFill>
                  <a:srgbClr val="ffc000"/>
                </a:solidFill>
                <a:latin typeface="Calibri"/>
              </a:rPr>
              <a:t>Solid</a:t>
            </a:r>
            <a:r>
              <a:rPr b="1" lang="en-US" sz="4000" spc="-1" strike="noStrike">
                <a:solidFill>
                  <a:srgbClr val="d9d9d9"/>
                </a:solidFill>
                <a:latin typeface="Calibri"/>
              </a:rPr>
              <a:t>	</a:t>
            </a:r>
            <a:r>
              <a:rPr b="1" lang="en-US" sz="4000" spc="-1" strike="noStrike">
                <a:solidFill>
                  <a:srgbClr val="7d3da1"/>
                </a:solidFill>
                <a:latin typeface="Calibri"/>
              </a:rPr>
              <a:t>Liquid</a:t>
            </a:r>
            <a:r>
              <a:rPr b="1" lang="en-US" sz="4000" spc="-1" strike="noStrike">
                <a:solidFill>
                  <a:srgbClr val="d9d9d9"/>
                </a:solidFill>
                <a:latin typeface="Calibri"/>
              </a:rPr>
              <a:t> </a:t>
            </a:r>
            <a:r>
              <a:rPr b="1" lang="en-US" sz="4000" spc="-1" strike="noStrike">
                <a:solidFill>
                  <a:srgbClr val="d9d9d9"/>
                </a:solidFill>
                <a:latin typeface="Calibri"/>
              </a:rPr>
              <a:t>	</a:t>
            </a:r>
            <a:r>
              <a:rPr b="1" lang="en-US" sz="4000" spc="-1" strike="noStrike">
                <a:solidFill>
                  <a:srgbClr val="92d050"/>
                </a:solidFill>
                <a:latin typeface="Calibri"/>
              </a:rPr>
              <a:t>Ga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iscuss:</a:t>
            </a:r>
            <a:endParaRPr b="0" lang="en-US" sz="4000" spc="-1" strike="noStrike">
              <a:solidFill>
                <a:srgbClr val="ffffff"/>
              </a:solidFill>
              <a:latin typeface="Calibri"/>
            </a:endParaRPr>
          </a:p>
          <a:p>
            <a:pPr lvl="1" marL="914400" indent="-396720">
              <a:lnSpc>
                <a:spcPct val="90000"/>
              </a:lnSpc>
              <a:spcBef>
                <a:spcPts val="700"/>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What do you notice about the substances?</a:t>
            </a:r>
            <a:endParaRPr b="0" lang="en-US" sz="2800" spc="-1" strike="noStrike">
              <a:solidFill>
                <a:srgbClr val="ffffff"/>
              </a:solidFill>
              <a:latin typeface="Calibri"/>
            </a:endParaRPr>
          </a:p>
          <a:p>
            <a:pPr lvl="1" marL="914400" indent="-396720">
              <a:lnSpc>
                <a:spcPct val="90000"/>
              </a:lnSpc>
              <a:spcBef>
                <a:spcPts val="700"/>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Why do you identify each one as a solid, liquid, or gas?</a:t>
            </a:r>
            <a:endParaRPr b="0" lang="en-US" sz="2800" spc="-1" strike="noStrike">
              <a:solidFill>
                <a:srgbClr val="ffffff"/>
              </a:solidFill>
              <a:latin typeface="Calibri"/>
            </a:endParaRPr>
          </a:p>
          <a:p>
            <a:pPr lvl="1" marL="914400" indent="-396720">
              <a:lnSpc>
                <a:spcPct val="90000"/>
              </a:lnSpc>
              <a:spcBef>
                <a:spcPts val="700"/>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Which substances were the easiest/most difficult to put into categories?  Why?</a:t>
            </a:r>
            <a:endParaRPr b="0" lang="en-US" sz="28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15" name="TextBox 3"/>
          <p:cNvSpPr/>
          <p:nvPr/>
        </p:nvSpPr>
        <p:spPr>
          <a:xfrm>
            <a:off x="533520" y="632448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s the Matter with Teaching Children About Matter? </a:t>
            </a:r>
            <a:r>
              <a:rPr b="0" lang="en-US" sz="1400" spc="-1" strike="noStrike">
                <a:solidFill>
                  <a:srgbClr val="ffffff"/>
                </a:solidFill>
                <a:latin typeface="Arial"/>
              </a:rPr>
              <a:t>by Palmeri, Cole, DeLisle, Erickson, &amp; Janes </a:t>
            </a:r>
            <a:r>
              <a:rPr b="0" i="1" lang="en-US" sz="1400" spc="-1" strike="noStrike">
                <a:solidFill>
                  <a:srgbClr val="ffffff"/>
                </a:solidFill>
                <a:latin typeface="Arial"/>
              </a:rPr>
              <a:t>Science and Children</a:t>
            </a:r>
            <a:r>
              <a:rPr b="0" lang="en-US" sz="1400" spc="-1" strike="noStrike">
                <a:solidFill>
                  <a:srgbClr val="ffffff"/>
                </a:solidFill>
                <a:latin typeface="Arial"/>
              </a:rPr>
              <a:t>, NSTA  Dec2008</a:t>
            </a:r>
            <a:endParaRPr b="0" lang="en-US" sz="1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17" name=""/>
          <p:cNvSpPr txBox="1"/>
          <p:nvPr/>
        </p:nvSpPr>
        <p:spPr>
          <a:xfrm>
            <a:off x="609480" y="1599840"/>
            <a:ext cx="7391520" cy="68324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hich substances do you think students would have the most difficulty sorting?</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Viscous liquids:  fluid’s resistance to flow   (sticky and gluey substance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318" name="Picture 3" descr="C:\Documents and Settings\afloyd\Local Settings\Temporary Internet Files\Content.IE5\9NKDE88T\MC900250384[1].wmf"/>
          <p:cNvPicPr/>
          <p:nvPr/>
        </p:nvPicPr>
        <p:blipFill>
          <a:blip r:embed="rId2"/>
          <a:stretch/>
        </p:blipFill>
        <p:spPr>
          <a:xfrm>
            <a:off x="7010280" y="4267080"/>
            <a:ext cx="1676520" cy="2032200"/>
          </a:xfrm>
          <a:prstGeom prst="rect">
            <a:avLst/>
          </a:prstGeom>
          <a:ln w="0">
            <a:noFill/>
          </a:ln>
        </p:spPr>
      </p:pic>
      <p:sp>
        <p:nvSpPr>
          <p:cNvPr id="319" name="TextBox 4"/>
          <p:cNvSpPr/>
          <p:nvPr/>
        </p:nvSpPr>
        <p:spPr>
          <a:xfrm>
            <a:off x="533520" y="632448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s the Matter with Teaching Children About Matter? </a:t>
            </a:r>
            <a:r>
              <a:rPr b="0" lang="en-US" sz="1400" spc="-1" strike="noStrike">
                <a:solidFill>
                  <a:srgbClr val="ffffff"/>
                </a:solidFill>
                <a:latin typeface="Arial"/>
              </a:rPr>
              <a:t>by Palmeri, Cole, DeLisle, Erickson, &amp; Janes </a:t>
            </a:r>
            <a:r>
              <a:rPr b="0" i="1" lang="en-US" sz="1400" spc="-1" strike="noStrike">
                <a:solidFill>
                  <a:srgbClr val="ffffff"/>
                </a:solidFill>
                <a:latin typeface="Arial"/>
              </a:rPr>
              <a:t>Science and Children</a:t>
            </a:r>
            <a:r>
              <a:rPr b="0" lang="en-US" sz="1400" spc="-1" strike="noStrike">
                <a:solidFill>
                  <a:srgbClr val="ffffff"/>
                </a:solidFill>
                <a:latin typeface="Arial"/>
              </a:rPr>
              <a:t>, NSTA  Dec2008</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11:09Z</dcterms:created>
  <dc:creator>afloyd</dc:creator>
  <dc:description/>
  <cp:keywords/>
  <dc:language>en-US</dc:language>
  <cp:lastModifiedBy>afloyd</cp:lastModifiedBy>
  <dcterms:modified xsi:type="dcterms:W3CDTF">2013-03-01T18:45:42Z</dcterms:modified>
  <cp:revision>110</cp:revision>
  <dc:subject/>
  <dc:title>Science Team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39990</vt:lpwstr>
  </property>
</Properties>
</file>